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0.wmf" ContentType="image/x-wmf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3DB-497F-4A1F-BD80-A8AFE0BA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719-85E4-429F-8335-0C7E0BEB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A20-9A72-4EF1-A02A-A8EEE094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5CB-8689-49BA-B4C6-8451567D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0AC-5A31-4B68-8C26-F7D9B127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D32-FF76-46C7-AAD3-C5DC5161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E0C-D131-443B-A4A2-47A67C4D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483-7EF0-4898-A01F-30D9C58D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2CE-708E-43A6-B781-42247050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64F-8AF9-4949-8CBF-3A1C6AC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FC5-4896-4518-8099-F550261D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42A-6025-411C-A433-A0F5A90A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1236-577F-4B3E-8534-28183F214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iowa.edu/~centeach/tgi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SCent Postdoc Professional Development Series on Effective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ssion 7 – Testing, Assessment and G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48120" cy="284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23960" y="16002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4040" y="5943600"/>
            <a:ext cx="51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October 20</a:t>
            </a:r>
            <a:r>
              <a:rPr b="0" lang="en-US" sz="18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SCent - Durham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Do I Want From My Stu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monstrate a comprehensive understanding of topics covered in the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nthesize concepts into a “big pictur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lain at a level that is appropriate for target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de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057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20600" y="2743200"/>
            <a:ext cx="710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lain Immunology by writing a children’s story, along the lines of “The Magic Schoolbus” se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62040" y="1397160"/>
            <a:ext cx="6019920" cy="406224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1320" y="135720"/>
            <a:ext cx="8498520" cy="6665040"/>
            <a:chOff x="391320" y="135720"/>
            <a:chExt cx="8498520" cy="666504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 rot="20976000">
              <a:off x="609120" y="456840"/>
              <a:ext cx="3810240" cy="2762280"/>
            </a:xfrm>
            <a:prstGeom prst="rect">
              <a:avLst/>
            </a:prstGeom>
            <a:ln w="28440">
              <a:solidFill>
                <a:srgbClr val="99cc00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 rot="268800">
              <a:off x="5943240" y="304560"/>
              <a:ext cx="2806560" cy="3690720"/>
            </a:xfrm>
            <a:prstGeom prst="rect">
              <a:avLst/>
            </a:prstGeom>
            <a:ln w="28440">
              <a:solidFill>
                <a:srgbClr val="bbe0e3"/>
              </a:solidFill>
              <a:miter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 rot="706800">
              <a:off x="2895480" y="4114440"/>
              <a:ext cx="2876760" cy="241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172440" y="2424960"/>
            <a:ext cx="2784600" cy="4253400"/>
            <a:chOff x="172440" y="2424960"/>
            <a:chExt cx="2784600" cy="425340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 rot="1459200">
              <a:off x="533520" y="2666880"/>
              <a:ext cx="1628640" cy="2105280"/>
            </a:xfrm>
            <a:prstGeom prst="rect">
              <a:avLst/>
            </a:prstGeom>
            <a:ln w="28440">
              <a:solidFill>
                <a:srgbClr val="99cc00"/>
              </a:solidFill>
              <a:miter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 rot="20265600">
              <a:off x="990720" y="4343400"/>
              <a:ext cx="1628640" cy="2104920"/>
            </a:xfrm>
            <a:prstGeom prst="rect">
              <a:avLst/>
            </a:prstGeom>
            <a:ln w="28440">
              <a:solidFill>
                <a:srgbClr val="009999"/>
              </a:solidFill>
              <a:miter/>
            </a:ln>
          </p:spPr>
        </p:pic>
      </p:grp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 rot="20821800">
            <a:off x="6476760" y="3886200"/>
            <a:ext cx="2190600" cy="2647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3200400" y="1523880"/>
            <a:ext cx="3276720" cy="27180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20915400">
            <a:off x="533520" y="1523520"/>
            <a:ext cx="2271600" cy="339120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21248400">
            <a:off x="3276720" y="914400"/>
            <a:ext cx="3000240" cy="17082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651000">
            <a:off x="6629400" y="2057400"/>
            <a:ext cx="1990800" cy="35053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rot="935400">
            <a:off x="3809880" y="3809520"/>
            <a:ext cx="1866960" cy="192420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gic School Bus: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lex scientific concepts are addres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epts are explained thoroughly, accurately and at a level that is appropriate for the target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target audience knows less about the topic than the aut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udents are given three topics from which to choose.  These topics overlap and each is comprehen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am is take-home.  It is assigned with 2-3 weeks left in the semester and is due on the day of the scheduled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ny books, notes, handouts may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udents are required to illustrate their story, but it is heavily emphasized that they will not be graded on artistic 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880" y="2136600"/>
            <a:ext cx="419112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ope (40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ccuracy (40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eativity (20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ul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545148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19040" y="181080"/>
            <a:ext cx="8305920" cy="649584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ONE Thing You Should Take Away From Today’s Sess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8880" y="266688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should determine 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assessment strategies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, not vice vers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212760"/>
            <a:ext cx="8229600" cy="643104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9960" y="133200"/>
            <a:ext cx="8344080" cy="6589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9040" y="169920"/>
            <a:ext cx="8305920" cy="651816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87200"/>
            <a:ext cx="8229600" cy="6481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udent Attitudes Regarding This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3560" y="1600200"/>
          <a:ext cx="81550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600200"/>
                    <a:ext cx="81550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1219320"/>
            <a:ext cx="7467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t first I thought “Oh…a children’s book…piece of cake”.  But, as I started outlining what I wanted to say, I started to really have to think about the T cell process and how to say it all effectively.  It is HAR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 think it will really help me to retain what I’ve learned in the course.  I remember very little from most of my college classes because I couldn’t remember the basics.  This should cement the fundamentals for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 like the fact that we get to take what we know and make sure we know it by explaining it to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t forces you to really understand the concepts while allowing room for creativity (something you rarely get to use in science cour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 have never had a final in which we had to think like that, which was not just refreshing, but fun as well.  I found a lot of gaps in what I have learned over the semester by doing this assignment, which caused me to work pretty hard…once I finished…I felt proud of what I had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dent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0666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1600200"/>
            <a:ext cx="746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 think it is a good tool to test my immunological knowledge, but it is too shallow, not testing my understanding of immunology thoroughly en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ot too happy with it.  I think there may be some bias when it comes to grading over who’s more arti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he final exam is idiotic and rewards creativity and writing ability more than actual knowledge of the subject matter.  I think this final is an unfair way to test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dent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16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tential Pit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esting/assessment shapes content or 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esting students on content no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ilure to provide CLEAR expectations and jus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ilure to develop and adhere to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ilure to give students a chance to “practice” multiple times (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wit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feedback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Good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Classroom Assessment Techniqu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(1993), Angelo and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Effective Grading: A Tool for Learning and Assessmen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(1998), Walvoord and 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eneral philosophies of assessment and grading; test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aching Goals Inventories” and their use in designing assessmen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chniques for assessing content knowledge (traditional and “alternativ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tential pitfalls in grading and assessmen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ference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: A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llection and analysis of information used to indicate how/how much students are learn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s of assessments: tests, quizzes, assignments, projects, tasks, activities, 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t is a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process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, not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vides information about instructor(s), as well as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hould be used to provide students with feedback on their progress, strengths, weaknesse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hould be used to identify necessary changes in instructional methods, sty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Formativ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vs. </a:t>
            </a: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Summativ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mative Assessment: Done throughout course (including very beginning).  Used to improve quality of student learning.  (Exs. Non-graded (or minimally graded) quizzes, “minute papers”, student com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mmative Assessment: “End of Class” testing.  Comprehensive, provides accountabi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ust as students have different “learning styles”, they also have different “testing styl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e aware of this, respect it, but don’t cater your course or assessment plan to a particular test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est approach: Develop a strategy that assesses as many testing styles as possible, within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ing Goals Inventor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dentify and characterize learning goa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e a TGI tool to accomplish this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uiowa.edu/~centeach/tgi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s of learning goals: basic knowledge, higher-order thinking, critical thinking, career prep/professional developmen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velop formative and summative assessements to evalu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ques and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aditional assessment and test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at are some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at are some strengths/weaknesses of th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ternative” testing methods – A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24:31Z</dcterms:created>
  <dc:creator>Jory P. Weintraub, Ph.D.</dc:creator>
  <dc:description/>
  <dc:language>en-US</dc:language>
  <cp:lastModifiedBy>Diane Bosnjak</cp:lastModifiedBy>
  <dcterms:modified xsi:type="dcterms:W3CDTF">2006-10-27T04:18:47Z</dcterms:modified>
  <cp:revision>67</cp:revision>
  <dc:subject/>
  <dc:title>Slide 1</dc:title>
</cp:coreProperties>
</file>