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C7E-9067-4EB4-B767-AC4A243C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C96-F726-49FA-8BBF-8635C84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00B-1EA2-47AC-BB5F-BC0D5E33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85-F3BF-40DF-9551-046294FE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7F9-E788-4207-BE06-27EF7B2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54E-E9AD-46F4-AC49-67F7378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60E-F161-46D9-AF27-A722DEF4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D10-1503-4751-A246-4CEC996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E13-1292-4E8A-BA40-33427A0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69F-068A-432E-B705-2111EAA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B61-41F8-494B-AAD1-3FEDBE2B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C86-274C-4156-9C36-8D5E700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6E3-2D69-495F-B2B7-AE34AC58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ilosophy.unimelb.edu.au/reason/papers/ASCILITE2001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ducause.edu/" TargetMode="External"/><Relationship Id="rId2" Type="http://schemas.openxmlformats.org/officeDocument/2006/relationships/hyperlink" Target="http://horizon.unc.edu/main.asp" TargetMode="External"/><Relationship Id="rId3" Type="http://schemas.openxmlformats.org/officeDocument/2006/relationships/hyperlink" Target="http://horizon.unc.edu/main.asp" TargetMode="External"/><Relationship Id="rId4" Type="http://schemas.openxmlformats.org/officeDocument/2006/relationships/hyperlink" Target="http://www.tltgroup.org/" TargetMode="External"/><Relationship Id="rId5" Type="http://schemas.openxmlformats.org/officeDocument/2006/relationships/hyperlink" Target="http://www.mcli.dist.maricopa.edu/tl/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6 – Teaching with Technology, Teaching via Videotele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gust 25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86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743200" cy="2101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00600" y="343080"/>
            <a:ext cx="4172040" cy="617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581280" cy="2387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Advanced Tools (electronic whiteboards, tablet PCs, SRSs, iPod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ance Educ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synchronous tools (“online course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ynchronous tools (videoteleconferencing (VTC), webconfere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ended Learning”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86400" y="11872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deoteleconference (VTC)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079960" cy="3809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7080" y="88920"/>
            <a:ext cx="5054400" cy="37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343400" y="32194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079960" cy="3391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11872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deoteleconference (VTC)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mo: Teaching via V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Teaching with Technolog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2000) David G. Brown,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Web Teaching Guide: A Practical Approach to Creating Course Websit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2000) Sarah H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The ‘No Significant Difference’ Phenomeno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1999) Thomas L.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to Improve Critical Thinking Using Instructional Technology” (2001) Timothy van Gelder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hilosophy.unimelb.edu.au/reason/papers/ASCILITE2001.pdf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Online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EDUCAUS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EDUCAUSE focuses on the use of information resources in higher education.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educause.edu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oriz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"The environmental scanning publication for education leaders"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horizon.unc.edu/main.a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The TLT Grou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A non-profit group focusing on effectively using technology to enhance teaching and learning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tltgroup.org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Teaching and Learning on the WWW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Over 605 examples of how the Web is being used as a medium for learning.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mcli.dist.maricopa.edu/tl/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3960" y="1523880"/>
            <a:ext cx="7696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“…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the winter of 1813-1814 . . . I attended a mathematical school kept in Boston . . . on entering his room, we were struck at the appearance of an ample black board suspended on the wall, with lumps of chalk on a ledge below, and cloths hanging at either side. I had never heard of such a thing bef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- May, 1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Thoughts on Teaching with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arriers to Teaching with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ctional Techn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mo: Teaching via Videoteleconference (VT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Thoughts on Tw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oid the “George Mallory” approach (“…because it is the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chnology should enhance the learning process…ideally it should enable the instructor and/or student to do things that couldn’t be done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now your students and their resource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Ble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technology in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member the “Seven Principles for Good Practice in Undergraduate Educ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riers to Tw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esta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upgrade (remain on the cutting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ulty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 for faculty, stu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8" dur="1" fill="hold"/>
                                  <p:tgtEl>
                                    <p:spTgt spid="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dvanc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lectronic whi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t 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udent response systems (S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470480" cy="36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7800" y="776160"/>
            <a:ext cx="37339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MART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uch-sensitive, electronic white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76920" y="6858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ablet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mp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84200"/>
            <a:ext cx="3292200" cy="21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886200" cy="3876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846520"/>
            <a:ext cx="3429000" cy="3325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Jory P. Weintraub, Ph.D.</cp:lastModifiedBy>
  <dcterms:modified xsi:type="dcterms:W3CDTF">2006-08-25T15:32:33Z</dcterms:modified>
  <cp:revision>55</cp:revision>
  <dc:subject/>
  <dc:title>Slide 1</dc:title>
</cp:coreProperties>
</file>