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322-ADBC-4EDD-8474-5DCF88CA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BB3-C6BB-4767-83DC-FAE31575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3CA-8E20-4DB6-ABFB-B9B91AC4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7B4-9D74-4DE3-8478-B53EB694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A5E-2E66-4F66-91A8-51A179DC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D08-29BB-4E12-B71B-048BBFBD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422-118D-4AF3-9C4B-36FA47A2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9858-0236-4653-8309-74F64F22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6AD-7FD2-42CB-AB9D-02E9672B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DD5-AF0C-4432-8D24-5D41F320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C03-CA40-4EDF-AD6A-037E9ECF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CE7-07F6-4B5E-AB57-BCCB91A0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883D-9F22-45CF-A08B-215B4A6B8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hilosophy.unimelb.edu.au/reason/papers/ASCILITE2001.pd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ducause.edu/" TargetMode="External"/><Relationship Id="rId2" Type="http://schemas.openxmlformats.org/officeDocument/2006/relationships/hyperlink" Target="http://horizon.unc.edu/main.asp" TargetMode="External"/><Relationship Id="rId3" Type="http://schemas.openxmlformats.org/officeDocument/2006/relationships/hyperlink" Target="http://horizon.unc.edu/main.asp" TargetMode="External"/><Relationship Id="rId4" Type="http://schemas.openxmlformats.org/officeDocument/2006/relationships/hyperlink" Target="http://www.tltgroup.org/" TargetMode="External"/><Relationship Id="rId5" Type="http://schemas.openxmlformats.org/officeDocument/2006/relationships/hyperlink" Target="http://www.mcli.dist.maricopa.edu/tl/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ESCent Postdoc Professional Development Series on Effective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6 – Teaching with Technology, Teaching via Videotele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048120" cy="284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723960" y="160020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4040" y="5943600"/>
            <a:ext cx="51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ugust 25</a:t>
            </a:r>
            <a:r>
              <a:rPr b="0" lang="en-US" sz="18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ESCent - Durham, 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2286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udent Respons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743200" cy="2101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00600" y="343080"/>
            <a:ext cx="4172040" cy="6172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3581280" cy="2387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Instructional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Basic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Film clips and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Websites and 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Course Management Software (e.g., Black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Integrated suite of tools for cours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Announcements, document posting/sharing, discussion boards, online gradebook, group pages, online quizzes and survey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Advanced Tools (electronic whiteboards, tablet PCs, SRSs, iPod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istance Education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synchronous tools (“online courses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ynchronous tools (videoteleconferencing (VTC), webconferen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Blended Learning”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486400" y="118728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ideoteleconference (VTC)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86200" y="2743200"/>
            <a:ext cx="5079960" cy="3809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7080" y="88920"/>
            <a:ext cx="5054400" cy="379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343400" y="321948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079960" cy="3391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86400" y="118728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ideoteleconference (VTC)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mo: Teaching via VT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Good 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Teaching with Technology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(2000) David G. Brown,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Web Teaching Guide: A Practical Approach to Creating Course Websit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(2000) Sarah Ho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The ‘No Significant Difference’ Phenomeno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(1999) Thomas L. Rus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How to Improve Critical Thinking Using Instructional Technology” (2001) Timothy van Gelder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philosophy.unimelb.edu.au/reason/papers/ASCILITE2001.pdf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tional Online 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EDUCAUS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EDUCAUSE focuses on the use of information resources in higher education.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(http://www.educause.edu/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oriz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"The environmental scanning publication for education leaders"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(http://horizon.unc.edu/main.as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The TLT Grou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A non-profit group focusing on effectively using technology to enhance teaching and learning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(http://www.tltgroup.org/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Teaching and Learning on the WWW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Over 605 examples of how the Web is being used as a medium for learning.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(http://www.mcli.dist.maricopa.edu/tl/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23960" y="1523880"/>
            <a:ext cx="7696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“…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the winter of 1813-1814 . . . I attended a mathematical school kept in Boston . . . on entering his room, we were struck at the appearance of an ample black board suspended on the wall, with lumps of chalk on a ledge below, and cloths hanging at either side. I had never heard of such a thing bef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- May, 18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eneral Thoughts on Teaching with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Barriers to Teaching with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s of Instructional Techn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mo: Teaching via Videoteleconference (VT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Thoughts on Tw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void the “George Mallory” approach (“…because it is ther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echnology should enhance the learning process…ideally it should enable the instructor and/or student to do things that couldn’t be done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Know your students and their resources and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Blend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technology into your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member the “Seven Principles for Good Practice in Undergraduate Educ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rriers to Tw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st to estab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st to mai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st to upgrade (remain on the cutting 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culty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uden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uden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 for faculty, stud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Instructional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Basic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ilm clips and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ebsites and 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urse Management Software (e.g., Black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ntegrated suite of tools for cours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nnouncements, document posting/sharing, discussion boards, online gradebook, group pages, online quizzes and survey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8" dur="1" fill="hold"/>
                                  <p:tgtEl>
                                    <p:spTgt spid="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9" dur="1" fill="hold"/>
                                  <p:tgtEl>
                                    <p:spTgt spid="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Instructional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Basic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Film clips and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Websites and 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Course Management Software (e.g., Black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Integrated suite of tools for cours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Announcements, document posting/sharing, discussion boards, online gradebook, group pages, online quizzes and survey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Advanc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lectronic white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t 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udent response systems (S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P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871880" cy="3654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4470480" cy="3654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57800" y="776160"/>
            <a:ext cx="37339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MART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uch-sensitive, electronic white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876920" y="685800"/>
            <a:ext cx="373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ablet 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ymp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484200"/>
            <a:ext cx="3292200" cy="219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886200" cy="3876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2846520"/>
            <a:ext cx="3429000" cy="3325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7:24:31Z</dcterms:created>
  <dc:creator>Jory P. Weintraub, Ph.D.</dc:creator>
  <dc:description/>
  <dc:language>en-US</dc:language>
  <cp:lastModifiedBy>Jory P. Weintraub, Ph.D.</cp:lastModifiedBy>
  <dcterms:modified xsi:type="dcterms:W3CDTF">2006-08-25T15:32:33Z</dcterms:modified>
  <cp:revision>55</cp:revision>
  <dc:subject/>
  <dc:title>Slide 1</dc:title>
</cp:coreProperties>
</file>