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F73-9D2B-4C2D-8FF9-C6706D9C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486-B7B9-4DD4-831A-2E2B46B7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E75-AADE-42B4-B1A8-4F02B7E0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050-6BB6-4161-9C96-9F73457A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166-F293-45BB-BC0F-C54A89AE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B2F-12E5-4D4A-88BE-28644D7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4E7-2FFD-4B2D-9D4E-20C9ACB4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A5E-E8F9-4A53-876B-AC6278FB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828-3F6A-4B74-9C2F-8ED28DAC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056-8954-447B-97F6-38234E3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E03-3D70-4E26-A1FE-FB3D02E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F92-35DB-4656-9464-F763795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DC1F-DC91-40DC-B89D-62CA8AB8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172200" y="6118200"/>
            <a:ext cx="2895480" cy="66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aleup.ncsu.edu/" TargetMode="External"/><Relationship Id="rId2" Type="http://schemas.openxmlformats.org/officeDocument/2006/relationships/hyperlink" Target="http://scaleup.ncsu.edu/" TargetMode="External"/><Relationship Id="rId3" Type="http://schemas.openxmlformats.org/officeDocument/2006/relationships/hyperlink" Target="http://scaleup.ncsu.edu/" TargetMode="External"/><Relationship Id="rId4" Type="http://schemas.openxmlformats.org/officeDocument/2006/relationships/hyperlink" Target="file://pmabs1/users/BRybarczyk/Shaw%20Collaboration/active%20learning%20workshop/Workshop%20presentation/Take_a_Walk.mov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brybar@unc.edu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Rybarczyk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 Chapel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artment of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6480" y="3429000"/>
            <a:ext cx="45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nergizing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2370240" cy="2984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Improving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graphics, charts, graph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what you want to anno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students’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hor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tudents time to generat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summarize majo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Examples of A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Robert Beichner – NC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-UP – researching effectiveness of active learning in physics and 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aleup.ncsu.ed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CALE-UP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Ac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-pair-share (pair-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ddiest point/clearest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quiz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 papers and writ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L and 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4446" r="0" b="13336"/>
          <a:stretch/>
        </p:blipFill>
        <p:spPr>
          <a:xfrm>
            <a:off x="457200" y="380880"/>
            <a:ext cx="78487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ading Primary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figure/table to each student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title for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abstract and have students write a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51173" t="2082" r="16798" b="39583"/>
          <a:stretch/>
        </p:blipFill>
        <p:spPr>
          <a:xfrm>
            <a:off x="914400" y="1143000"/>
            <a:ext cx="73152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59375" t="18753" r="8202" b="22917"/>
          <a:stretch/>
        </p:blipFill>
        <p:spPr>
          <a:xfrm>
            <a:off x="914400" y="1143000"/>
            <a:ext cx="71629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oncerns &amp;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580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your concerns about using active learning activities &amp; techniq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o the students what is happening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assessments wit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ff simple (low ri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, walk around classroom, be attentive to stude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rely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70240" cy="2984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Center for Case Study Teaching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ase study collec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blib.buffalo.edu/libraries/projects/cases/case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Based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 of Delawar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del.edu/pbl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L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Multimedia Educational Resource for Learning and Online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rlo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s of Inte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e: www.innovateonline.info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E Life Science Education – www.lifescied.org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 of College Science Teaching – www.nst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chemistry and Molecular Biology Education – www.bambed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concept of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techniques &amp;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active learning into your future tea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28800" y="1143000"/>
            <a:ext cx="5562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Rybarczyk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ybar@un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702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da Vinci and the 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905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1371600"/>
            <a:ext cx="43434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dies essence of the Rena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irth’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outside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Brainstorm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8600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ways that your professors taugh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effec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Brainstorm Activit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ways you learn best now as a scient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5720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56720" y="503244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class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970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512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06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623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38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1146600" y="30456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Re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7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0" y="1889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480" y="3092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76520" y="4419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908440" y="2503440"/>
            <a:ext cx="5109480" cy="1660680"/>
            <a:chOff x="2908440" y="2503440"/>
            <a:chExt cx="5109480" cy="1660680"/>
          </a:xfrm>
        </p:grpSpPr>
        <p:sp>
          <p:nvSpPr>
            <p:cNvPr id="71" name=""/>
            <p:cNvSpPr/>
            <p:nvPr/>
          </p:nvSpPr>
          <p:spPr>
            <a:xfrm>
              <a:off x="6629400" y="3200400"/>
              <a:ext cx="457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8760" y="300816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8440" y="2503440"/>
              <a:ext cx="3671640" cy="1660680"/>
            </a:xfrm>
            <a:custGeom>
              <a:avLst/>
              <a:gdLst/>
              <a:ahLst/>
              <a:rect l="l" t="t" r="r" b="b"/>
              <a:pathLst>
                <a:path w="2313" h="1046">
                  <a:moveTo>
                    <a:pt x="0" y="85"/>
                  </a:moveTo>
                  <a:cubicBezTo>
                    <a:pt x="52" y="48"/>
                    <a:pt x="98" y="15"/>
                    <a:pt x="160" y="0"/>
                  </a:cubicBezTo>
                  <a:cubicBezTo>
                    <a:pt x="247" y="7"/>
                    <a:pt x="322" y="19"/>
                    <a:pt x="406" y="38"/>
                  </a:cubicBezTo>
                  <a:cubicBezTo>
                    <a:pt x="439" y="45"/>
                    <a:pt x="468" y="65"/>
                    <a:pt x="500" y="75"/>
                  </a:cubicBezTo>
                  <a:cubicBezTo>
                    <a:pt x="518" y="93"/>
                    <a:pt x="542" y="103"/>
                    <a:pt x="557" y="123"/>
                  </a:cubicBezTo>
                  <a:cubicBezTo>
                    <a:pt x="563" y="131"/>
                    <a:pt x="562" y="142"/>
                    <a:pt x="566" y="151"/>
                  </a:cubicBezTo>
                  <a:cubicBezTo>
                    <a:pt x="585" y="190"/>
                    <a:pt x="586" y="172"/>
                    <a:pt x="614" y="208"/>
                  </a:cubicBezTo>
                  <a:cubicBezTo>
                    <a:pt x="673" y="284"/>
                    <a:pt x="624" y="247"/>
                    <a:pt x="680" y="283"/>
                  </a:cubicBezTo>
                  <a:cubicBezTo>
                    <a:pt x="693" y="324"/>
                    <a:pt x="711" y="363"/>
                    <a:pt x="746" y="387"/>
                  </a:cubicBezTo>
                  <a:cubicBezTo>
                    <a:pt x="760" y="429"/>
                    <a:pt x="790" y="469"/>
                    <a:pt x="821" y="500"/>
                  </a:cubicBezTo>
                  <a:cubicBezTo>
                    <a:pt x="880" y="558"/>
                    <a:pt x="824" y="454"/>
                    <a:pt x="906" y="576"/>
                  </a:cubicBezTo>
                  <a:cubicBezTo>
                    <a:pt x="941" y="628"/>
                    <a:pt x="906" y="583"/>
                    <a:pt x="954" y="623"/>
                  </a:cubicBezTo>
                  <a:cubicBezTo>
                    <a:pt x="1000" y="661"/>
                    <a:pt x="1022" y="714"/>
                    <a:pt x="1086" y="736"/>
                  </a:cubicBezTo>
                  <a:cubicBezTo>
                    <a:pt x="1195" y="773"/>
                    <a:pt x="1306" y="805"/>
                    <a:pt x="1416" y="840"/>
                  </a:cubicBezTo>
                  <a:cubicBezTo>
                    <a:pt x="1471" y="876"/>
                    <a:pt x="1552" y="905"/>
                    <a:pt x="1615" y="925"/>
                  </a:cubicBezTo>
                  <a:cubicBezTo>
                    <a:pt x="1686" y="973"/>
                    <a:pt x="1813" y="990"/>
                    <a:pt x="1898" y="1001"/>
                  </a:cubicBezTo>
                  <a:cubicBezTo>
                    <a:pt x="2037" y="1046"/>
                    <a:pt x="2164" y="1039"/>
                    <a:pt x="2313" y="103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38320" y="2443320"/>
            <a:ext cx="5931000" cy="439560"/>
            <a:chOff x="2938320" y="2443320"/>
            <a:chExt cx="5931000" cy="439560"/>
          </a:xfrm>
        </p:grpSpPr>
        <p:sp>
          <p:nvSpPr>
            <p:cNvPr id="75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8400" y="2514600"/>
              <a:ext cx="17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ve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38320" y="2443320"/>
              <a:ext cx="3432240" cy="318960"/>
            </a:xfrm>
            <a:custGeom>
              <a:avLst/>
              <a:gdLst/>
              <a:ahLst/>
              <a:rect l="l" t="t" r="r" b="b"/>
              <a:pathLst>
                <a:path w="2162" h="201">
                  <a:moveTo>
                    <a:pt x="0" y="113"/>
                  </a:moveTo>
                  <a:cubicBezTo>
                    <a:pt x="79" y="100"/>
                    <a:pt x="158" y="91"/>
                    <a:pt x="236" y="76"/>
                  </a:cubicBezTo>
                  <a:cubicBezTo>
                    <a:pt x="331" y="82"/>
                    <a:pt x="367" y="83"/>
                    <a:pt x="444" y="104"/>
                  </a:cubicBezTo>
                  <a:cubicBezTo>
                    <a:pt x="469" y="111"/>
                    <a:pt x="494" y="117"/>
                    <a:pt x="519" y="123"/>
                  </a:cubicBezTo>
                  <a:cubicBezTo>
                    <a:pt x="532" y="126"/>
                    <a:pt x="557" y="132"/>
                    <a:pt x="557" y="132"/>
                  </a:cubicBezTo>
                  <a:cubicBezTo>
                    <a:pt x="638" y="116"/>
                    <a:pt x="626" y="90"/>
                    <a:pt x="689" y="57"/>
                  </a:cubicBezTo>
                  <a:cubicBezTo>
                    <a:pt x="697" y="53"/>
                    <a:pt x="737" y="41"/>
                    <a:pt x="746" y="38"/>
                  </a:cubicBezTo>
                  <a:cubicBezTo>
                    <a:pt x="781" y="46"/>
                    <a:pt x="816" y="56"/>
                    <a:pt x="850" y="66"/>
                  </a:cubicBezTo>
                  <a:cubicBezTo>
                    <a:pt x="869" y="72"/>
                    <a:pt x="906" y="85"/>
                    <a:pt x="906" y="85"/>
                  </a:cubicBezTo>
                  <a:cubicBezTo>
                    <a:pt x="956" y="118"/>
                    <a:pt x="1010" y="152"/>
                    <a:pt x="1067" y="170"/>
                  </a:cubicBezTo>
                  <a:cubicBezTo>
                    <a:pt x="1113" y="201"/>
                    <a:pt x="1158" y="188"/>
                    <a:pt x="1208" y="170"/>
                  </a:cubicBezTo>
                  <a:cubicBezTo>
                    <a:pt x="1242" y="120"/>
                    <a:pt x="1293" y="90"/>
                    <a:pt x="1350" y="76"/>
                  </a:cubicBezTo>
                  <a:cubicBezTo>
                    <a:pt x="1371" y="62"/>
                    <a:pt x="1385" y="40"/>
                    <a:pt x="1407" y="28"/>
                  </a:cubicBezTo>
                  <a:cubicBezTo>
                    <a:pt x="1424" y="19"/>
                    <a:pt x="1444" y="16"/>
                    <a:pt x="1463" y="10"/>
                  </a:cubicBezTo>
                  <a:cubicBezTo>
                    <a:pt x="1473" y="7"/>
                    <a:pt x="1492" y="0"/>
                    <a:pt x="1492" y="0"/>
                  </a:cubicBezTo>
                  <a:cubicBezTo>
                    <a:pt x="1533" y="5"/>
                    <a:pt x="1568" y="3"/>
                    <a:pt x="1605" y="19"/>
                  </a:cubicBezTo>
                  <a:cubicBezTo>
                    <a:pt x="1639" y="33"/>
                    <a:pt x="1664" y="55"/>
                    <a:pt x="1699" y="66"/>
                  </a:cubicBezTo>
                  <a:cubicBezTo>
                    <a:pt x="1740" y="93"/>
                    <a:pt x="1766" y="126"/>
                    <a:pt x="1813" y="142"/>
                  </a:cubicBezTo>
                  <a:cubicBezTo>
                    <a:pt x="1885" y="132"/>
                    <a:pt x="1869" y="139"/>
                    <a:pt x="1917" y="123"/>
                  </a:cubicBezTo>
                  <a:cubicBezTo>
                    <a:pt x="1936" y="117"/>
                    <a:pt x="1973" y="104"/>
                    <a:pt x="1973" y="104"/>
                  </a:cubicBezTo>
                  <a:cubicBezTo>
                    <a:pt x="2038" y="62"/>
                    <a:pt x="2080" y="66"/>
                    <a:pt x="2162" y="66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3080" y="6019920"/>
            <a:ext cx="481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McKeachie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ching tips: Strategies, research and theory for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 college and university teachers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oughton-Mifflin (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4630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4267080"/>
            <a:ext cx="7391520" cy="1600200"/>
          </a:xfrm>
          <a:prstGeom prst="rect">
            <a:avLst/>
          </a:prstGeom>
          <a:solidFill>
            <a:srgbClr val="f3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lem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of their ow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, deb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inst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4038480"/>
            <a:ext cx="29718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0800" y="44956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c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038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971800" y="5105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6920" y="4038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943600" y="5028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3124080"/>
            <a:ext cx="7848360" cy="3200400"/>
            <a:chOff x="762120" y="3124080"/>
            <a:chExt cx="7848360" cy="3200400"/>
          </a:xfrm>
        </p:grpSpPr>
        <p:sp>
          <p:nvSpPr>
            <p:cNvPr id="91" name=""/>
            <p:cNvSpPr/>
            <p:nvPr/>
          </p:nvSpPr>
          <p:spPr>
            <a:xfrm>
              <a:off x="762120" y="3124080"/>
              <a:ext cx="2361960" cy="1219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90720" y="3200400"/>
              <a:ext cx="1844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lem-Based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3124080"/>
              <a:ext cx="2362320" cy="1219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8520" y="4876920"/>
              <a:ext cx="2361960" cy="1218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5105520"/>
              <a:ext cx="2361960" cy="1218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5410080"/>
              <a:ext cx="18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perative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840" y="350532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arn By Do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0800" y="51814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quiry-based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stud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student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student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tudent ownership in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lecturing by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citing classroom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eve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23:03:03Z</dcterms:created>
  <dc:creator>Administrator</dc:creator>
  <dc:description/>
  <dc:language>en-US</dc:language>
  <cp:lastModifiedBy>Diane Bosnjak</cp:lastModifiedBy>
  <dcterms:modified xsi:type="dcterms:W3CDTF">2006-05-31T06:56:36Z</dcterms:modified>
  <cp:revision>114</cp:revision>
  <dc:subject/>
  <dc:title>Introduction to Active Learning</dc:title>
</cp:coreProperties>
</file>