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0ED-F3B2-4006-9B15-BA90FD0C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D15-1ADD-4253-B5AA-574BCC8B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C3C-230E-4354-8C03-0A1A3622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346-9F7D-44A0-9067-E66B5DD2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B7F-3A60-4041-B6B7-7AF77F3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91F-99D5-4772-98CB-392B99A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2A8-7CCF-4C2A-B504-49D04212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C30-B705-447F-BA0E-3714265B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353-EF22-481D-9FA2-795E0CC6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5AE-EECA-4DE1-9304-7C17CB8B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FFE-44B1-4F43-9F33-D396911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563-6E28-443D-AE73-3DDDF8B2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C937-CFAF-41FF-AEAA-EEDD808B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5 – Student Involvement: Cooperative Learning, Learning Communitie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lf-Direct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July 21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Learning (C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46360" y="1143000"/>
            <a:ext cx="384984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92040" y="609588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oger T. Johnson and David W. Johnson – U. Minnes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Learning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s working in groups on structured learn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asks meet five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ositive 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dividua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e-to-Face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mphasis on 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lf-Assessment of Group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Johnson, Johnson and Smith 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perative Learn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am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am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igsaw”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ir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uctured/Constructive Controver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i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lder and Brent –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Coopera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rov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instructo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student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rehension, retention,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gher 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unication and interperson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esteem, self-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ass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lder and Brent –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Cooperative Learning 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motes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s persist where individuals 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s observe, learn alternative problem-solv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s ask more and better questions; fear of asking questions is dim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gnitive rehearsal” – Learn by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lder and Brent –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Effective Teaching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operative Learning: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 chemistry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dividuals not contributing to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a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ifficulty identifying individuals with problems/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ften requires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mor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effort by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840680"/>
            <a:ext cx="830556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learning community is “curriculum design which coordinates two or more courses into a single program of instruction.”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strength of learning communities is in the integrated approach to education. Integrated educational experiences more closely parallel the way people learn and are more relevant to real world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udents have the opportunity to see topics from multiple, sometimes even conflicting, perspectives, allowing for more critical thin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- Rasmussen and Skinner (199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 variety of approaches that link or cluster classes, during a given term, often around an interdisciplinary theme, and enroll a common cohort of studen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s represents an intentional restructuring of students’ time, credit, and learning experiences to build community and to foster more explicit connections among students and their teachers, and among disciplin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Gabelnick, Macgregor, Matthews,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onents of Learning Comm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centered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-led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blem-ba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ical think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rit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laborative projects and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rvice and civ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bs and fiel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Learning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nhanced academic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creased retention/gradua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student-faculty (and student-student)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proved overall “satisfaction” with academic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gistical benefits (registration, advisi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ronger connections to loc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ross-disciplinary (i.e., “big picture”)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mitations of Learning Comm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s significant planning, effort, time, resources on part of instructors and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nnot be implemented by single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isk of social aspects overshadowing academic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cklash associated with “trend” 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Direct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057400"/>
            <a:ext cx="670536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 self-directed learning (SDL), the individual takes the initiative and the responsibility for what occurs. Individuals select, manage, and assess their own learning activities [typically under supervision], which can be pursued at any time, in any place, through any means, at any age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- Maurice Gibb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s of Self-Direct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dividualiz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tial education, internships, exter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unit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ifelong learn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spects of Self-Direct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rsonal, individualized “learning contra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assessment/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f-analysis of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ment of individual study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rsonal reflection, jour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gular interaction with/assessment by faculty men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mitations of Self-Direct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bor intensive (for both faculty member and stu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quires high level of student motivation, self-su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t practical for larg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valuation can be probl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cKeachie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eaching Tips: Strategies, Research and Theory for College and University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vis -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ools fo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ohnson, Johnson and Smith (1998) –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Active Learning: Cooperation in the Colleg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Review: A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are some examples (good and bad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use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techni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Use Activ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“typical” student has an average attention span of 11 minutes during a traditional l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mediately after a traditional lecture, a student remembers 70% of what was covered in the first 10 minutes; 20% of what was covered in the last 1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McKeac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Review: A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are som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y use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techniq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en should you use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Active Learning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es it only work for certain topics or discip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ing a variety of techniques or methods to get students more involved or engaged in the learn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s occurs both in and out of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overwhelmingly demonstrate increased comprehension, retention, student and instructor satisf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095560"/>
            <a:ext cx="6553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are some other ways to get students involved and eng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Review of Session 4: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meant by </a:t>
            </a:r>
            <a:r>
              <a:rPr b="0" i="1" lang="en-US" sz="3200" spc="-1" strike="noStrike">
                <a:solidFill>
                  <a:srgbClr val="808080"/>
                </a:solidFill>
                <a:latin typeface="Tahoma"/>
              </a:rPr>
              <a:t>Student Involvement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 Projects (Cooperative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Self-Directed/Indepen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oncerns?  Comments? 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Diane Bosnjak</cp:lastModifiedBy>
  <dcterms:modified xsi:type="dcterms:W3CDTF">2006-08-01T15:45:19Z</dcterms:modified>
  <cp:revision>46</cp:revision>
  <dc:subject/>
  <dc:title>Slide 1</dc:title>
</cp:coreProperties>
</file>