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82A-53B8-473E-B472-373FD117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409-CC30-4853-885D-EB24615E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214-C8BC-4DA5-862C-3DA0911B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212-ED44-4088-8967-62725FBD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943-6302-4B25-930A-68BF0F50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A36-3FAE-4B1E-84A6-CDF5450E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9FB-CA50-48E2-B7CB-7A33D6E8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A60-F346-40D7-BDA0-45755530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C39-BA7C-46D4-B867-E6D79925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92C-5B60-4388-8B9E-A1ED3141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F17-3AE0-4D81-AA28-12370265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733-399C-46DF-A071-425042C5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E4FD-8C37-4F8B-9E95-E7D069577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ESCent Postdoc Professional Development Series on Effective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5 – Student Involvement: Cooperative Learning, Learning Communitie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lf-Direct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048120" cy="284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723960" y="160020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4040" y="5943600"/>
            <a:ext cx="51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July 21</a:t>
            </a:r>
            <a:r>
              <a:rPr b="0" lang="en-US" sz="1800" spc="-1" strike="noStrike" baseline="30000">
                <a:solidFill>
                  <a:srgbClr val="333399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ESCent - Durham, 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perative Learning (C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46360" y="1143000"/>
            <a:ext cx="3849840" cy="4800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392040" y="609588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oger T. Johnson and David W. Johnson – U. Minnes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perative Learning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s working in groups on structured learning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asks meet five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ositive Inter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dividual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ce-to-Face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mphasis on 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lf-Assessment of Group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Johnson, Johnson and Smith (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perative Learnin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am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am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igsaw”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ir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ructured/Constructive Controver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i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elder and Brent – 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Effective Teaching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efits of Coopera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rov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-instructor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-student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rehension, retention,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gher order think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unication and interperson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lf-esteem, self-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ass 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elder and Brent – 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Effective Teaching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y Cooperative Learning 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motes 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s persist where individuals giv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s observe, learn alternative problem-solv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s ask more and better questions; fear of asking questions is dim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gnitive rehearsal” – Learn by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ctr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elder and Brent – 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Effective Teaching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operative Learning: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 chemistry/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dividuals not contributing to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ad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pec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ifficulty identifying individuals with problems/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ften requires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more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effort by i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Review of Session 4: 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What is meant by </a:t>
            </a:r>
            <a:r>
              <a:rPr b="0" i="1" lang="en-US" sz="3200" spc="-1" strike="noStrike">
                <a:solidFill>
                  <a:srgbClr val="808080"/>
                </a:solidFill>
                <a:latin typeface="Tahoma"/>
              </a:rPr>
              <a:t>Student Involvement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Group Projects (Cooperative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earning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Self-Directed/Indepen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Concerns?  Comments? 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Comm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840680"/>
            <a:ext cx="830556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 learning community is “curriculum design which coordinates two or more courses into a single program of instruction.”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strength of learning communities is in the integrated approach to education. Integrated educational experiences more closely parallel the way people learn and are more relevant to real world ev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tudents have the opportunity to see topics from multiple, sometimes even conflicting, perspectives, allowing for more critical thin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- Rasmussen and Skinner (1999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Comm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 variety of approaches that link or cluster classes, during a given term, often around an interdisciplinary theme, and enroll a common cohort of studen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s represents an intentional restructuring of students’ time, credit, and learning experiences to build community and to foster more explicit connections among students and their teachers, and among disciplin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Gabelnick, Macgregor, Matthews,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ponents of Learning Comm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-centered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-led 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blem-bas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itical thinking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riting across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llaborative projects and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rvice and civic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bs and field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view of Session 4: 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is meant by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Student Involvement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 Projects (Cooperative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earning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lf-Directed/Indepen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erns?  Comments? 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efits of Learning Comm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nhanced academic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creased retention/graduat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re student-faculty (and student-student)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roved overall “satisfaction” with academic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ogistical benefits (registration, advising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ronger connections to loc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ross-disciplinary (i.e., “big picture”)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imitations of Learning Comm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quires significant planning, effort, time, resources on part of instructors and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annot be implemented by single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isk of social aspects overshadowing academic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acklash associated with “trend” st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Review of Session 4: 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What is meant by </a:t>
            </a:r>
            <a:r>
              <a:rPr b="0" i="1" lang="en-US" sz="3200" spc="-1" strike="noStrike">
                <a:solidFill>
                  <a:srgbClr val="808080"/>
                </a:solidFill>
                <a:latin typeface="Tahoma"/>
              </a:rPr>
              <a:t>Student Involvement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Group Projects (Cooperative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Learning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lf-Directed/Indepen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Concerns?  Comments? 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Direct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057400"/>
            <a:ext cx="670536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 self-directed learning (SDL), the individual takes the initiative and the responsibility for what occurs. Individuals select, manage, and assess their own learning activities [typically under supervision], which can be pursued at any time, in any place, through any means, at any age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- Maurice Gibb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s of Self-Directed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dependent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dividualize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tial education, internships, exter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unity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ifelong learn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spects of Self-Directed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ersonal, individualized “learning contra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lf-assessment/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lf-analysis of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learning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velopment of individual study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ersonal reflection, jour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gular interaction with/assessment by faculty men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imitations of Self-Directed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bor intensive (for both faculty member and stud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quires high level of student motivation, self-su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ot practical for large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valuation can be probl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Good 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cKeachie -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Teaching Tips: Strategies, Research and Theory for College and University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avis -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Tools for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Johnson, Johnson and Smith (1998) –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ctive Learning: Cooperation in the Colleg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Review: Ac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is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Active Learning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are some examples (good and bad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use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Active Learning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techniq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Use Active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“typical” student has an average attention span of 11 minutes during a traditional l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mediately after a traditional lecture, a student remembers 70% of what was covered in the first 10 minutes; 20% of what was covered in the last 1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McKeac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Review: Ac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What is </a:t>
            </a:r>
            <a:r>
              <a:rPr b="0" i="1" lang="en-US" sz="3200" spc="-1" strike="noStrike">
                <a:solidFill>
                  <a:srgbClr val="808080"/>
                </a:solidFill>
                <a:latin typeface="Tahoma"/>
              </a:rPr>
              <a:t>Active Learning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What are some 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Why use </a:t>
            </a:r>
            <a:r>
              <a:rPr b="0" i="1" lang="en-US" sz="3200" spc="-1" strike="noStrike">
                <a:solidFill>
                  <a:srgbClr val="808080"/>
                </a:solidFill>
                <a:latin typeface="Tahoma"/>
              </a:rPr>
              <a:t>Active Learning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 techniq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en should you use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Active Learning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es it only work for certain topics or discipl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Review of Session 4: 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is meant by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Student Involvement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Group Projects (Cooperative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Learning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Self-Directed/Indepen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Concerns?  Comments? 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udent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ing a variety of techniques or methods to get students more involved or engaged in the learn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s occurs both in and out of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ta overwhelmingly demonstrate increased comprehension, retention, student and instructor satisf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2095560"/>
            <a:ext cx="65534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are some other ways to get students involved and engag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Review of Session 4: 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What is meant by </a:t>
            </a:r>
            <a:r>
              <a:rPr b="0" i="1" lang="en-US" sz="3200" spc="-1" strike="noStrike">
                <a:solidFill>
                  <a:srgbClr val="808080"/>
                </a:solidFill>
                <a:latin typeface="Tahoma"/>
              </a:rPr>
              <a:t>Student Involvement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 Projects (Cooperative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Learning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Self-Directed/Indepen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Concerns?  Comments? 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7:24:31Z</dcterms:created>
  <dc:creator>Jory P. Weintraub, Ph.D.</dc:creator>
  <dc:description/>
  <dc:language>en-US</dc:language>
  <cp:lastModifiedBy>Diane Bosnjak</cp:lastModifiedBy>
  <dcterms:modified xsi:type="dcterms:W3CDTF">2006-08-01T15:45:19Z</dcterms:modified>
  <cp:revision>46</cp:revision>
  <dc:subject/>
  <dc:title>Slide 1</dc:title>
</cp:coreProperties>
</file>