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BAC-E653-49E1-BF42-AA0DD82E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BDA-95B6-4EF9-BCDB-9CE1D29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B6E-7BDE-4477-9368-41DED109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237-E1AE-4514-B516-0C6440B6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BCB-931D-47EA-91E7-2C343127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40B-3D1F-475A-92E1-157A913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C44-EB4F-4312-ADA9-65083302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B8E-DB78-4552-BCA6-0ED08F23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561-9B6F-47DF-A6A4-D9F3D32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8F3-8432-4952-B266-B16B9B4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412-EBF9-4CC8-994D-C43F5A3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A26-E999-430C-9435-468D1AB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8DC-AE8E-4356-A7D9-C735A5E9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pitome.ce.gatech.edu/iowa/index.html" TargetMode="External"/><Relationship Id="rId2" Type="http://schemas.openxmlformats.org/officeDocument/2006/relationships/hyperlink" Target="http://epitome.ce.gatech.edu/iowa/index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ssion 3 – Planning Your First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pril 28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4343400"/>
            <a:ext cx="61722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352680"/>
            <a:ext cx="6172200" cy="838440"/>
          </a:xfrm>
          <a:prstGeom prst="rect">
            <a:avLst/>
          </a:prstGeom>
          <a:solidFill>
            <a:srgbClr val="cc66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362320"/>
            <a:ext cx="61722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257800"/>
            <a:ext cx="61722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676520"/>
            <a:ext cx="61722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019920"/>
            <a:ext cx="6172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63188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Remember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recall or remember information (define, duplicate, list, memorize, recall, repeat, reproduce, st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Understand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explain ideas or concepts (classify, describe, discuss, explain, identify, locate, recognize, report, select, translate, paraphr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pply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use the information in a new way (choose, demonstrate, dramatize, employ, illustrate, interpret, operate, schedule, sketch, solve, use, 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nalyz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distinguish between the different parts (appraise, compare, contrast, criticize, differentiate, discriminate, distinguish, examine, experiment, question,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valu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justify a stand or decision (appraise, argue, defend, judge, select, support, value, evalu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re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create new product or point of view (assemble, construct, create, design, develop, formulate, wri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77120" y="2743200"/>
            <a:ext cx="2514600" cy="2209680"/>
            <a:chOff x="6477120" y="2743200"/>
            <a:chExt cx="2514600" cy="22096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6477120" y="2743200"/>
              <a:ext cx="2514600" cy="22096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6477120" y="2743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etails can change slightly throughout the term, as can the sylla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fact, flexibility is a key to successful teac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One exception: students (and their parents) might not appreciate you switching textbooks midstream!  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Your course objectives should be fixed and rigid, so TAKE YOUR TIME, GET FEEDBACK AND DO YOUR BEST TO GET THEM RIGHT THE FIRST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5257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What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shoul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be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#, name,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structor name, office location, office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s (names, contact info, office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erequ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xtbook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What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may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 be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scription/overview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line of topic, concept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signment du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itional reading, supplement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8880" y="60480"/>
            <a:ext cx="1817640" cy="146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 with your course objectiv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n’t rush through this job…it’s one of the most important aspects of course de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ok for examples on the web and from your colleagues.  Identify things you like and things to av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t as much feedback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good syllabus is an important key to a successful cour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8880" y="60480"/>
            <a:ext cx="1817640" cy="1463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274320"/>
            <a:ext cx="5257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21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osing a 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ope?  Depth?  Focus?  Cont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re there good visu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re there “real world” examples?  Case stud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es it have self tests or study guides at the end of each chap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additional materials are available to instructor and/or student from publis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nancial issues – do you really even need a textbook?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p: Read a chapter or two on a subject with which you are less familiar.  Is it clear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R.M. Felder and R. Brent, NC State Un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133720" cy="123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activiti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verything takes longer than you thought it wou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e mindful of students’ resources when designing activities (e.g., do they all have laptop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 average student can pay attention and stay focused on a standard lecture for approximately 11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students like to talk…others hate it.  Similarly, some students love group work and others do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member to complement/appeal to/address multiple learning sty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91520" y="25560"/>
            <a:ext cx="16761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To 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3120" y="1905120"/>
            <a:ext cx="8294760" cy="3994920"/>
            <a:chOff x="123120" y="1905120"/>
            <a:chExt cx="8294760" cy="3994920"/>
          </a:xfrm>
        </p:grpSpPr>
        <p:grpSp>
          <p:nvGrpSpPr>
            <p:cNvPr id="123" name=""/>
            <p:cNvGrpSpPr/>
            <p:nvPr/>
          </p:nvGrpSpPr>
          <p:grpSpPr>
            <a:xfrm>
              <a:off x="239760" y="1905120"/>
              <a:ext cx="8090280" cy="581400"/>
              <a:chOff x="239760" y="1905120"/>
              <a:chExt cx="8090280" cy="581400"/>
            </a:xfrm>
          </p:grpSpPr>
          <p:sp>
            <p:nvSpPr>
              <p:cNvPr id="124" name=""/>
              <p:cNvSpPr/>
              <p:nvPr/>
            </p:nvSpPr>
            <p:spPr>
              <a:xfrm>
                <a:off x="3214440" y="2057400"/>
                <a:ext cx="2362320" cy="380520"/>
              </a:xfrm>
              <a:prstGeom prst="leftRightArrow">
                <a:avLst>
                  <a:gd name="adj1" fmla="val 50000"/>
                  <a:gd name="adj2" fmla="val 123588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9760" y="1905120"/>
                <a:ext cx="28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AC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Discussion, Debate, Group 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41280" y="1905120"/>
                <a:ext cx="2588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REFLEC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Journals, Time for Refl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23120" y="3002040"/>
              <a:ext cx="8227800" cy="581400"/>
              <a:chOff x="123120" y="3002040"/>
              <a:chExt cx="8227800" cy="581400"/>
            </a:xfrm>
          </p:grpSpPr>
          <p:sp>
            <p:nvSpPr>
              <p:cNvPr id="128" name=""/>
              <p:cNvSpPr/>
              <p:nvPr/>
            </p:nvSpPr>
            <p:spPr>
              <a:xfrm>
                <a:off x="3214440" y="3124080"/>
                <a:ext cx="2362320" cy="381240"/>
              </a:xfrm>
              <a:prstGeom prst="leftRightArrow">
                <a:avLst>
                  <a:gd name="adj1" fmla="val 50000"/>
                  <a:gd name="adj2" fmla="val 123354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3120" y="3002040"/>
                <a:ext cx="311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VISU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Diagrams, Movies, Demonstr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90520" y="3002040"/>
                <a:ext cx="266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VERB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Writing Projects, Oral Repo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0920" y="3992400"/>
              <a:ext cx="8128080" cy="581400"/>
              <a:chOff x="160920" y="3992400"/>
              <a:chExt cx="8128080" cy="58140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8480" y="4114800"/>
                <a:ext cx="2361960" cy="380880"/>
              </a:xfrm>
              <a:prstGeom prst="leftRightArrow">
                <a:avLst>
                  <a:gd name="adj1" fmla="val 50000"/>
                  <a:gd name="adj2" fmla="val 12345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920" y="3992400"/>
                <a:ext cx="305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SENSING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Real-world Applications, Hands-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82680" y="3992400"/>
                <a:ext cx="250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INTUITIVE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Concept Maps, Conne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23640" y="5105520"/>
              <a:ext cx="8094240" cy="794520"/>
              <a:chOff x="323640" y="5105520"/>
              <a:chExt cx="8094240" cy="794520"/>
            </a:xfrm>
          </p:grpSpPr>
          <p:sp>
            <p:nvSpPr>
              <p:cNvPr id="136" name=""/>
              <p:cNvSpPr/>
              <p:nvPr/>
            </p:nvSpPr>
            <p:spPr>
              <a:xfrm>
                <a:off x="3214440" y="5181480"/>
                <a:ext cx="2362320" cy="381240"/>
              </a:xfrm>
              <a:prstGeom prst="leftRightArrow">
                <a:avLst>
                  <a:gd name="adj1" fmla="val 50000"/>
                  <a:gd name="adj2" fmla="val 123354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640" y="5105520"/>
                <a:ext cx="271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SEQUENTI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utlines, Flow Cha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88520" y="5105520"/>
                <a:ext cx="252936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Tahoma"/>
                  </a:rPr>
                  <a:t>GLOBAL LEAR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verviews, Connections t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Tahoma"/>
                  </a:rPr>
                  <a:t>Other Material, “Big Picture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ing for an individua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ink of it as a “microcour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termine your learning objectives in advance (and feel free to state these at the start of th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termine what you would like to cover in that class, but know you probably won’t have enoug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do they need to read?  In advance or as follow-up?  What assignments are associated with this c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vide an outline at the start of class…students like to know what they will be cov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pare the class, walk away from it for a while, and then revisit it with a fresh 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hould you “rehearse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Though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 won’t be perfect the first time you teac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r the second time or the tenth time, or 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 may get “worse” before it gets better.  That’s okay, too, as long as you’re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ake your student evaluations to heart.  Learn from them, but try not to get discouraged by them.  Collect early- or mid-semester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e flexible, have fun and remember what you love about the topic.  The best way to get a student excited about the material is to be excited by the mater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740720" y="76320"/>
            <a:ext cx="13572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onlund - 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How to write and use instructional objective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entice Hall P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ctional Objective Writing Assistant (IOWA) –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epitome.ce.gatech.edu/iowa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ere do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urs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paring for an individual class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nal though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ine, if you wi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are an Assistant professor in your second ye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st year, they decided to take it easy on you and only make you teach one course – Intro B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syllabus was already set, the textbook had been selected (the same one they’ve used for years) and you were given all the PPT presentations and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w, the honeymoon is over!  You must create and teach an upper level course “in your field”, from scrat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s course will be highly specialized and has never been taught (or even existed) at your institution bef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do you do?  Where do you st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complete the paperwork to create the course, i.e., get it “on the boo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select a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develop/design a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devise a grading strategy (Number of tests? Makeup exams?  Homework?  Curve? 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must create a cours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many students will you admit?  Wait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are the prerequi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s there an attendance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technology will you use?  Powerpoint?  Chalk?  Pod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h yeah – One more th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438280"/>
            <a:ext cx="374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You need to create/ prepare all of your lectures for the entire course and have them ready to go by the first day of the seme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7831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ece o’ cake,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59092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are some of your concerns?  Questions?  Challenges?  Fears?  Nightm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9718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riously…I’m frightened, confused and clueless…where do I st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urse Objectives (aka Instructional Objec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yllabus (big picture…don’t 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details…Y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xt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W sweat the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ading scheme and ex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ssignment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p work?  Student present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urse website,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ogistics (enrollment, attendance, prereq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3162600" cy="2530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med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do I need to define course objec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y critical course material and identify and delete extraneous cours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t students know what your expectations of them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cilitate construction of in-class activities, out-of-class assignments,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vide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ll faculty colleagues what they can expect students who pass your course to be able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R.M. Felder and R. Brent, </a:t>
            </a:r>
            <a:r>
              <a:rPr b="0" i="1" lang="en-US" sz="12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, North Carolina State University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the end of this course, you will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nacceptable: “…understand the principles of macro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ood: “…be able to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lis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examples of macro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explain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how macroevolution relates to specia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design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expts that demonstrate macro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    “…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e able to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evaluate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models of macroevolution for ability to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ere have I heard thi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Jory P. Weintraub, Ph.D.</cp:lastModifiedBy>
  <dcterms:modified xsi:type="dcterms:W3CDTF">2006-04-28T15:17:06Z</dcterms:modified>
  <cp:revision>28</cp:revision>
  <dc:subject/>
  <dc:title>Slide 1</dc:title>
</cp:coreProperties>
</file>