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5CA7-1618-4BA8-9485-89190C31B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C542-29D9-45CD-98D6-65ED4911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1149-FABB-4077-98DB-6DCCE998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AD19-FA77-4156-BC0F-23BFE73F4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0490-72E5-4A81-8512-317AEBEB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8C4F-A04E-4B3E-A39D-25761A60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4AFE-D5C7-4050-B8C0-AB3EEC6C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C865-6BFA-4F9E-9180-0878B473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B2E9-82B3-4B47-BAE0-3B3CCDD2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808F-B7EB-412F-88DD-408C6158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2155-3C8A-41AF-84E0-CBC31553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2B8A-398F-4663-BC07-0059C0F5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1F4A-0640-4B4D-B1A6-08B12D4BE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pitome.ce.gatech.edu/iowa/index.html" TargetMode="External"/><Relationship Id="rId2" Type="http://schemas.openxmlformats.org/officeDocument/2006/relationships/hyperlink" Target="http://epitome.ce.gatech.edu/iowa/index.html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NESCent Postdoc Professional Development Series on Effective Teaching an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ssion 3 – Planning Your First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71800" y="2819520"/>
            <a:ext cx="3048120" cy="28479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723960" y="160020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94040" y="5943600"/>
            <a:ext cx="515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April 28</a:t>
            </a:r>
            <a:r>
              <a:rPr b="0" lang="en-US" sz="18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NESCent - Durham, 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2280" y="4343400"/>
            <a:ext cx="6172200" cy="762120"/>
          </a:xfrm>
          <a:prstGeom prst="rect">
            <a:avLst/>
          </a:prstGeom>
          <a:solidFill>
            <a:srgbClr val="33cc3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3352680"/>
            <a:ext cx="6172200" cy="838440"/>
          </a:xfrm>
          <a:prstGeom prst="rect">
            <a:avLst/>
          </a:prstGeom>
          <a:solidFill>
            <a:srgbClr val="cc66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2362320"/>
            <a:ext cx="6172200" cy="838080"/>
          </a:xfrm>
          <a:prstGeom prst="rect">
            <a:avLst/>
          </a:prstGeom>
          <a:solidFill>
            <a:srgbClr val="ff00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5257800"/>
            <a:ext cx="617220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1676520"/>
            <a:ext cx="617220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6019920"/>
            <a:ext cx="61722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loom’s Tax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1631880"/>
            <a:ext cx="61722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Remembering: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Student can recall or remember information (define, duplicate, list, memorize, recall, repeat, reproduce, st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Understanding: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Student can explain ideas or concepts (classify, describe, discuss, explain, identify, locate, recognize, report, select, translate, paraphra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Applying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: Student can use the information in a new way (choose, demonstrate, dramatize, employ, illustrate, interpret, operate, schedule, sketch, solve, use, wri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Analyzing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: Student can distinguish between the different parts (appraise, compare, contrast, criticize, differentiate, discriminate, distinguish, examine, experiment, question, te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Evaluating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: Student can justify a stand or decision (appraise, argue, defend, judge, select, support, value, evalu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Creating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: Student can create new product or point of view (assemble, construct, create, design, develop, formulate, writ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477120" y="2743200"/>
            <a:ext cx="2514600" cy="2209680"/>
            <a:chOff x="6477120" y="2743200"/>
            <a:chExt cx="2514600" cy="220968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6477120" y="2743200"/>
              <a:ext cx="2514600" cy="2209680"/>
            </a:xfrm>
            <a:prstGeom prst="rect">
              <a:avLst/>
            </a:prstGeom>
            <a:ln w="9360">
              <a:solidFill>
                <a:srgbClr val="333399"/>
              </a:solidFill>
              <a:miter/>
            </a:ln>
          </p:spPr>
        </p:pic>
        <p:sp>
          <p:nvSpPr>
            <p:cNvPr id="93" name=""/>
            <p:cNvSpPr/>
            <p:nvPr/>
          </p:nvSpPr>
          <p:spPr>
            <a:xfrm>
              <a:off x="6477120" y="274320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12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details can change slightly throughout the term, as can the syllab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 fact, flexibility is a key to successful teach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One exception: students (and their parents) might not appreciate you switching textbooks midstream!  </a:t>
            </a:r>
            <a:r>
              <a:rPr b="0" lang="en-US" sz="2800" spc="-1" strike="noStrike">
                <a:solidFill>
                  <a:srgbClr val="333399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BU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Your course objectives should be fixed and rigid, so TAKE YOUR TIME, GET FEEDBACK AND DO YOUR BEST TO GET THEM RIGHT THE FIRST TI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52578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igning a sylla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Tahoma"/>
              </a:rPr>
              <a:t>What </a:t>
            </a:r>
            <a:r>
              <a:rPr b="0" i="1" lang="en-US" sz="2400" spc="-1" strike="noStrike" u="sng">
                <a:solidFill>
                  <a:srgbClr val="333399"/>
                </a:solidFill>
                <a:uFillTx/>
                <a:latin typeface="Tahoma"/>
              </a:rPr>
              <a:t>should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Tahoma"/>
              </a:rPr>
              <a:t> be in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ourse #, name, sem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nstructor name, office location, office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As (names, contact info, office hou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ourse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rerequi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extbook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olici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7985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Tahoma"/>
              </a:rPr>
              <a:t>What </a:t>
            </a:r>
            <a:r>
              <a:rPr b="0" i="1" lang="en-US" sz="2400" spc="-1" strike="noStrike" u="sng">
                <a:solidFill>
                  <a:srgbClr val="333399"/>
                </a:solidFill>
                <a:uFillTx/>
                <a:latin typeface="Tahoma"/>
              </a:rPr>
              <a:t>may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Tahoma"/>
              </a:rPr>
              <a:t> be in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Description/overview of 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Outline of topic, concept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est 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ssignment due 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dditional reading, supplemental 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238880" y="60480"/>
            <a:ext cx="1817640" cy="1463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s with your course objectiv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on’t rush through this job…it’s one of the most important aspects of course desig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ook for examples on the web and from your colleagues.  Identify things you like and things to avo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Get as much feedback as pos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 good syllabus is an important key to a successful cours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238880" y="60480"/>
            <a:ext cx="1817640" cy="14634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09120" y="274320"/>
            <a:ext cx="52578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igning a sylla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621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oosing a text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cope?  Depth?  Focus?  Contex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re there good visu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re there “real world” examples?  Case stud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Does it have self tests or study guides at the end of each chap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What additional materials are available to instructor and/or student from publis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inancial issues – do you really even need a textbook?!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ip: Read a chapter or two on a subject with which you are less familiar.  Is it clear to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ahoma"/>
              </a:rPr>
              <a:t>R.M. Felder and R. Brent, NC State Uni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553080" y="152280"/>
            <a:ext cx="2133720" cy="1239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162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ecting activitie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 your cou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verything takes longer than you thought it woul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Be mindful of students’ resources when designing activities (e.g., do they all have laptop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n average student can pay attention and stay focused on a standard lecture for approximately 11 min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ome students like to talk…others hate it.  Similarly, some students love group work and others do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emember to complement/appeal to/address multiple learning sty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391520" y="25560"/>
            <a:ext cx="1676160" cy="1422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ching To Learning Sty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23120" y="1905120"/>
            <a:ext cx="8294760" cy="3994920"/>
            <a:chOff x="123120" y="1905120"/>
            <a:chExt cx="8294760" cy="3994920"/>
          </a:xfrm>
        </p:grpSpPr>
        <p:grpSp>
          <p:nvGrpSpPr>
            <p:cNvPr id="123" name=""/>
            <p:cNvGrpSpPr/>
            <p:nvPr/>
          </p:nvGrpSpPr>
          <p:grpSpPr>
            <a:xfrm>
              <a:off x="239760" y="1905120"/>
              <a:ext cx="8090280" cy="581400"/>
              <a:chOff x="239760" y="1905120"/>
              <a:chExt cx="8090280" cy="581400"/>
            </a:xfrm>
          </p:grpSpPr>
          <p:sp>
            <p:nvSpPr>
              <p:cNvPr id="124" name=""/>
              <p:cNvSpPr/>
              <p:nvPr/>
            </p:nvSpPr>
            <p:spPr>
              <a:xfrm>
                <a:off x="3214440" y="2057400"/>
                <a:ext cx="2362320" cy="380520"/>
              </a:xfrm>
              <a:prstGeom prst="leftRightArrow">
                <a:avLst>
                  <a:gd name="adj1" fmla="val 50000"/>
                  <a:gd name="adj2" fmla="val 123588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39760" y="1905120"/>
                <a:ext cx="2879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Tahoma"/>
                  </a:rPr>
                  <a:t>ACTIVE LEARN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Tahoma"/>
                  </a:rPr>
                  <a:t>Discussion, Debate, Group Work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41280" y="1905120"/>
                <a:ext cx="2588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Tahoma"/>
                  </a:rPr>
                  <a:t>REFLECTIVE LEARN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Tahoma"/>
                  </a:rPr>
                  <a:t>Journals, Time for Refle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23120" y="3002040"/>
              <a:ext cx="8227800" cy="581400"/>
              <a:chOff x="123120" y="3002040"/>
              <a:chExt cx="8227800" cy="581400"/>
            </a:xfrm>
          </p:grpSpPr>
          <p:sp>
            <p:nvSpPr>
              <p:cNvPr id="128" name=""/>
              <p:cNvSpPr/>
              <p:nvPr/>
            </p:nvSpPr>
            <p:spPr>
              <a:xfrm>
                <a:off x="3214440" y="3124080"/>
                <a:ext cx="2362320" cy="381240"/>
              </a:xfrm>
              <a:prstGeom prst="leftRightArrow">
                <a:avLst>
                  <a:gd name="adj1" fmla="val 50000"/>
                  <a:gd name="adj2" fmla="val 123354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23120" y="3002040"/>
                <a:ext cx="3119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Tahoma"/>
                  </a:rPr>
                  <a:t>VISUAL LEARN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Tahoma"/>
                  </a:rPr>
                  <a:t>Diagrams, Movies, Demonstration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690520" y="3002040"/>
                <a:ext cx="2660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Tahoma"/>
                  </a:rPr>
                  <a:t>VERBAL LEARN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Tahoma"/>
                  </a:rPr>
                  <a:t>Writing Projects, Oral Repor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160920" y="3992400"/>
              <a:ext cx="8128080" cy="581400"/>
              <a:chOff x="160920" y="3992400"/>
              <a:chExt cx="8128080" cy="581400"/>
            </a:xfrm>
          </p:grpSpPr>
          <p:sp>
            <p:nvSpPr>
              <p:cNvPr id="132" name=""/>
              <p:cNvSpPr/>
              <p:nvPr/>
            </p:nvSpPr>
            <p:spPr>
              <a:xfrm>
                <a:off x="3138480" y="4114800"/>
                <a:ext cx="2361960" cy="380880"/>
              </a:xfrm>
              <a:prstGeom prst="leftRightArrow">
                <a:avLst>
                  <a:gd name="adj1" fmla="val 50000"/>
                  <a:gd name="adj2" fmla="val 123452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60920" y="3992400"/>
                <a:ext cx="3050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Tahoma"/>
                  </a:rPr>
                  <a:t>SENSING LEARN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Tahoma"/>
                  </a:rPr>
                  <a:t>Real-world Applications, Hands-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782680" y="3992400"/>
                <a:ext cx="2506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Tahoma"/>
                  </a:rPr>
                  <a:t>INTUITIVE LEARN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Tahoma"/>
                  </a:rPr>
                  <a:t>Concept Maps, Connection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323640" y="5105520"/>
              <a:ext cx="8094240" cy="794520"/>
              <a:chOff x="323640" y="5105520"/>
              <a:chExt cx="8094240" cy="794520"/>
            </a:xfrm>
          </p:grpSpPr>
          <p:sp>
            <p:nvSpPr>
              <p:cNvPr id="136" name=""/>
              <p:cNvSpPr/>
              <p:nvPr/>
            </p:nvSpPr>
            <p:spPr>
              <a:xfrm>
                <a:off x="3214440" y="5181480"/>
                <a:ext cx="2362320" cy="381240"/>
              </a:xfrm>
              <a:prstGeom prst="leftRightArrow">
                <a:avLst>
                  <a:gd name="adj1" fmla="val 50000"/>
                  <a:gd name="adj2" fmla="val 123354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23640" y="5105520"/>
                <a:ext cx="2710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Tahoma"/>
                  </a:rPr>
                  <a:t>SEQUENTIAL LEARN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Tahoma"/>
                  </a:rPr>
                  <a:t>Outlines, Flow Char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888520" y="5105520"/>
                <a:ext cx="2529360" cy="79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Tahoma"/>
                  </a:rPr>
                  <a:t>GLOBAL LEARN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Tahoma"/>
                  </a:rPr>
                  <a:t>Overviews, Connections to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Tahoma"/>
                  </a:rPr>
                  <a:t>Other Material, “Big Picture”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dissolv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12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paring for an individual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ink of it as a “microcours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Determine your learning objectives in advance (and feel free to state these at the start of the cla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Determine what you would like to cover in that class, but know you probably won’t have enough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What do they need to read?  In advance or as follow-up?  What assignments are associated with this cla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rovide an outline at the start of class…students like to know what they will be cove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repare the class, walk away from it for a while, and then revisit it with a fresh ey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hould you “rehearse”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12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al Though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t won’t be perfect the first time you teach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…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or the second time or the tenth time, or ev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t may get “worse” before it gets better.  That’s okay, too, as long as you’re lea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ake your student evaluations to heart.  Learn from them, but try not to get discouraged by them.  Collect early- or mid-semester com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Be flexible, have fun and remember what you love about the topic.  The best way to get a student excited about the material is to be excited by the materia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740720" y="76320"/>
            <a:ext cx="1357200" cy="1904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me Good Resourc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cKeachie - 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Teaching Tips: Strategies, Research and Theory for College and University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avis - 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Tools for 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Gonlund -  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How to write and use instructional objectives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rentice Hall Pu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structional Objective Writing Assistant (IOWA) –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epitome.ce.gatech.edu/iowa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ere do you sta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urs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urse sylla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urse text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urs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eparing for an individual class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nal thought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agine, if you wil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You are an Assistant professor in your second yea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ast year, they decided to take it easy on you and only make you teach one course – Intro Bio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e syllabus was already set, the textbook had been selected (the same one they’ve used for years) and you were given all the PPT presentations and ex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Now, the honeymoon is over!  You must create and teach an upper level course “in your field”, from scratch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s course will be highly specialized and has never been taught (or even existed) at your institution bef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12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at do you do?  Where do you sta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You must complete the paperwork to create the course, i.e., get it “on the book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You must select a text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You must develop/design a sylla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You must devise a grading strategy (Number of tests? Makeup exams?  Homework?  Curve? 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You must create a cours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How many students will you admit?  Waitli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What are the prerequisi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s there an attendance polic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What technology will you use?  Powerpoint?  Chalk?  Podca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h yeah – One more th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2438280"/>
            <a:ext cx="3749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You need to create/ prepare all of your lectures for the entire course and have them ready to go by the first day of the semest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2783160" cy="4038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iece o’ cake, r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2590920"/>
            <a:ext cx="3886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at are some of your concerns?  Questions?  Challenges?  Fears?  Nightma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143000" y="2590920"/>
            <a:ext cx="2971800" cy="2214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12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eriously…I’m frightened, confused and clueless…where do I sta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6172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ourse Objectives (aka Instructional Objectiv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yllabus (big picture…don’t sw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e details…Y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extboo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NOW sweat the detail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5480" indent="-42516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ading scheme and ex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5480" indent="-42516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Assignments and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5480" indent="-42516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p work?  Student presenta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5480" indent="-42516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Course website,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5480" indent="-42516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Logistics (enrollment, attendance, prereqs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867280" y="2514600"/>
            <a:ext cx="3162600" cy="25304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p:transition spd="med">
    <p:dissolv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12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do I need to define course objecti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dentify critical course material and identify and delete extraneous course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et students know what your expectations of them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acilitate construction of in-class activities, out-of-class assignments, and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rovide a study guide for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ell faculty colleagues what they can expect students who pass your course to be able to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ahoma"/>
              </a:rPr>
              <a:t>R.M. Felder and R. Brent, </a:t>
            </a:r>
            <a:r>
              <a:rPr b="0" i="1" lang="en-US" sz="1200" spc="-1" strike="noStrike">
                <a:solidFill>
                  <a:srgbClr val="333399"/>
                </a:solidFill>
                <a:latin typeface="Tahoma"/>
              </a:rPr>
              <a:t>Effective Teaching</a:t>
            </a:r>
            <a:r>
              <a:rPr b="0" lang="en-US" sz="1200" spc="-1" strike="noStrike">
                <a:solidFill>
                  <a:srgbClr val="333399"/>
                </a:solidFill>
                <a:latin typeface="Tahoma"/>
              </a:rPr>
              <a:t>, North Carolina State University,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12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igning Course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By the end of this course, you will…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Unacceptable: “…understand the principles of macroevolu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ood: “…be able to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Tahoma"/>
              </a:rPr>
              <a:t>list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examples of macroevolu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   “…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be able to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Tahoma"/>
              </a:rPr>
              <a:t>explain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how macroevolution relates to specia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    “…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be able to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Tahoma"/>
              </a:rPr>
              <a:t>design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expts that demonstrate macro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    “…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be able to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Tahoma"/>
              </a:rPr>
              <a:t>evaluate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models of macroevolution for ability to…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Where have I heard this befo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17:24:31Z</dcterms:created>
  <dc:creator>Jory P. Weintraub, Ph.D.</dc:creator>
  <dc:description/>
  <dc:language>en-US</dc:language>
  <cp:lastModifiedBy>Jory P. Weintraub, Ph.D.</cp:lastModifiedBy>
  <dcterms:modified xsi:type="dcterms:W3CDTF">2006-04-28T15:17:06Z</dcterms:modified>
  <cp:revision>28</cp:revision>
  <dc:subject/>
  <dc:title>Slide 1</dc:title>
</cp:coreProperties>
</file>