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24E-57FC-487C-81DB-F8DFC4B3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C48-AA93-4D25-BFB2-DF8B626A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3AF-02A3-40E1-A896-65A58624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E9F-4EBB-4560-96A0-A0AB8480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EE2-3958-4E17-81E8-D7B6631B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008-0BA9-47B1-A93A-D12FFD13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3A1-DFED-4107-9F8B-05BD6413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094-1382-483C-8250-A206DE7F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46A-E06C-44F7-8295-9810E223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EA0-3804-492B-83D8-2AF2E65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CB2-A9CF-4DBC-9DA4-D76714C0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4C9-133C-43E7-A0E9-49BDD9A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F69E-CD7B-440B-A1A6-554DC890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ngr.ncsu.edu/learningstyles/ilsweb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ssion 1 – Learning Theories,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ebruary 24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uld You Teach To Learning Sty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0560" y="1601640"/>
            <a:ext cx="6600960" cy="5105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ing To 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9760" y="1905120"/>
            <a:ext cx="8090280" cy="581400"/>
            <a:chOff x="239760" y="1905120"/>
            <a:chExt cx="8090280" cy="581400"/>
          </a:xfrm>
        </p:grpSpPr>
        <p:sp>
          <p:nvSpPr>
            <p:cNvPr id="117" name=""/>
            <p:cNvSpPr/>
            <p:nvPr/>
          </p:nvSpPr>
          <p:spPr>
            <a:xfrm>
              <a:off x="3214440" y="2057400"/>
              <a:ext cx="2362320" cy="380520"/>
            </a:xfrm>
            <a:prstGeom prst="leftRightArrow">
              <a:avLst>
                <a:gd name="adj1" fmla="val 50000"/>
                <a:gd name="adj2" fmla="val 12358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9760" y="190512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CTIVE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Discussion, Debate, Group 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1280" y="1905120"/>
              <a:ext cx="258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REFLECTIVE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Journals, Time for Refl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3120" y="3002040"/>
            <a:ext cx="8227800" cy="581400"/>
            <a:chOff x="123120" y="3002040"/>
            <a:chExt cx="8227800" cy="581400"/>
          </a:xfrm>
        </p:grpSpPr>
        <p:sp>
          <p:nvSpPr>
            <p:cNvPr id="121" name=""/>
            <p:cNvSpPr/>
            <p:nvPr/>
          </p:nvSpPr>
          <p:spPr>
            <a:xfrm>
              <a:off x="3214440" y="3124080"/>
              <a:ext cx="2362320" cy="381240"/>
            </a:xfrm>
            <a:prstGeom prst="leftRightArrow">
              <a:avLst>
                <a:gd name="adj1" fmla="val 50000"/>
                <a:gd name="adj2" fmla="val 12335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3120" y="3002040"/>
              <a:ext cx="31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VISUAL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Diagrams, Movies, Demonstr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90520" y="3002040"/>
              <a:ext cx="266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VERBAL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Writing Projects, Oral Re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60920" y="3992400"/>
            <a:ext cx="8128080" cy="581400"/>
            <a:chOff x="160920" y="3992400"/>
            <a:chExt cx="8128080" cy="581400"/>
          </a:xfrm>
        </p:grpSpPr>
        <p:sp>
          <p:nvSpPr>
            <p:cNvPr id="125" name=""/>
            <p:cNvSpPr/>
            <p:nvPr/>
          </p:nvSpPr>
          <p:spPr>
            <a:xfrm>
              <a:off x="3138480" y="4114800"/>
              <a:ext cx="2361960" cy="380880"/>
            </a:xfrm>
            <a:prstGeom prst="leftRightArrow">
              <a:avLst>
                <a:gd name="adj1" fmla="val 50000"/>
                <a:gd name="adj2" fmla="val 12345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920" y="3992400"/>
              <a:ext cx="305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SENSING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Real-world Applications, Hands-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82680" y="3992400"/>
              <a:ext cx="250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INTUITIVE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Concept Maps, Conn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23640" y="5105520"/>
            <a:ext cx="8094240" cy="794520"/>
            <a:chOff x="323640" y="5105520"/>
            <a:chExt cx="8094240" cy="794520"/>
          </a:xfrm>
        </p:grpSpPr>
        <p:sp>
          <p:nvSpPr>
            <p:cNvPr id="129" name=""/>
            <p:cNvSpPr/>
            <p:nvPr/>
          </p:nvSpPr>
          <p:spPr>
            <a:xfrm>
              <a:off x="3214440" y="5181480"/>
              <a:ext cx="2362320" cy="381240"/>
            </a:xfrm>
            <a:prstGeom prst="leftRightArrow">
              <a:avLst>
                <a:gd name="adj1" fmla="val 50000"/>
                <a:gd name="adj2" fmla="val 12335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40" y="5105520"/>
              <a:ext cx="271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SEQUENTIAL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Outlines, Flow Cha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88520" y="5105520"/>
              <a:ext cx="2529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GLOBAL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Overviews, Connections 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Other Material, “Big Pictur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ow Students Learn, How Teachers Teach, and What Goes Wrong with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t of Life #1: What students learn &lt; what we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t of Life #2: How much they learn is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nate 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atch between their learning style and our teaching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t of Life #3: We can’t do much about their ability, background or learning 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clusion: To maximize student learning, all we have to work with is our teaching 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6643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440" y="6553080"/>
            <a:ext cx="310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Tahoma"/>
              </a:rPr>
              <a:t>RM Felder and R Brent, Effective Teaching, NCSU, 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cKeachie -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Teaching Tips: Strategies, Research and Theory for College and University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vis -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Tools for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iven –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engr.ncsu.edu/learningstyles/ilsweb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ttp://www.humanmetrics.com/cgi-win/jungtyp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Makes A Goo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219320" y="2209680"/>
            <a:ext cx="2286000" cy="3581640"/>
            <a:chOff x="1219320" y="2209680"/>
            <a:chExt cx="2286000" cy="3581640"/>
          </a:xfrm>
        </p:grpSpPr>
        <p:sp>
          <p:nvSpPr>
            <p:cNvPr id="50" name=""/>
            <p:cNvSpPr txBox="1"/>
            <p:nvPr/>
          </p:nvSpPr>
          <p:spPr>
            <a:xfrm>
              <a:off x="1219320" y="2209680"/>
              <a:ext cx="2286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</a:rPr>
                <a:t>Teacher?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  <a:ea typeface="Tahoma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441440" y="3505320"/>
              <a:ext cx="191124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5334120" y="2362320"/>
            <a:ext cx="2286000" cy="3504960"/>
            <a:chOff x="5334120" y="2362320"/>
            <a:chExt cx="2286000" cy="3504960"/>
          </a:xfrm>
        </p:grpSpPr>
        <p:sp>
          <p:nvSpPr>
            <p:cNvPr id="53" name=""/>
            <p:cNvSpPr txBox="1"/>
            <p:nvPr/>
          </p:nvSpPr>
          <p:spPr>
            <a:xfrm>
              <a:off x="5334120" y="4952880"/>
              <a:ext cx="2286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</a:rPr>
                <a:t>Scientist?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  <a:ea typeface="Tahoma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5562720" y="2362320"/>
              <a:ext cx="1809720" cy="2287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ess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8880" y="2057400"/>
            <a:ext cx="7124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traits that make someone a good scientist are not necessarily the same traits that make them a good teac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960" y="403848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t they’re not mutually exclusive, ei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rning Theories – Many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400800" cy="4800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oom’s Taxonomy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 classification of levels of intellectual behavior important in learn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44960" y="2286000"/>
            <a:ext cx="3822120" cy="3429000"/>
            <a:chOff x="444960" y="2286000"/>
            <a:chExt cx="3822120" cy="3429000"/>
          </a:xfrm>
        </p:grpSpPr>
        <p:grpSp>
          <p:nvGrpSpPr>
            <p:cNvPr id="68" name=""/>
            <p:cNvGrpSpPr/>
            <p:nvPr/>
          </p:nvGrpSpPr>
          <p:grpSpPr>
            <a:xfrm>
              <a:off x="457200" y="2286000"/>
              <a:ext cx="3809880" cy="3429000"/>
              <a:chOff x="457200" y="2286000"/>
              <a:chExt cx="3809880" cy="3429000"/>
            </a:xfrm>
          </p:grpSpPr>
          <p:sp>
            <p:nvSpPr>
              <p:cNvPr id="69" name=""/>
              <p:cNvSpPr/>
              <p:nvPr/>
            </p:nvSpPr>
            <p:spPr>
              <a:xfrm>
                <a:off x="457200" y="2286000"/>
                <a:ext cx="380988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520" y="2286000"/>
                <a:ext cx="3733560" cy="340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"/>
            <p:cNvSpPr/>
            <p:nvPr/>
          </p:nvSpPr>
          <p:spPr>
            <a:xfrm>
              <a:off x="444960" y="22860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19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859640" y="2286000"/>
            <a:ext cx="3870000" cy="3414600"/>
            <a:chOff x="4859640" y="2286000"/>
            <a:chExt cx="3870000" cy="3414600"/>
          </a:xfrm>
        </p:grpSpPr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4876920" y="2286000"/>
              <a:ext cx="3852720" cy="34146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74" name=""/>
            <p:cNvSpPr/>
            <p:nvPr/>
          </p:nvSpPr>
          <p:spPr>
            <a:xfrm>
              <a:off x="4859640" y="228600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1990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4343400"/>
            <a:ext cx="6172200" cy="762120"/>
          </a:xfrm>
          <a:prstGeom prst="rect">
            <a:avLst/>
          </a:prstGeom>
          <a:solidFill>
            <a:srgbClr val="33cc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352680"/>
            <a:ext cx="6172200" cy="838440"/>
          </a:xfrm>
          <a:prstGeom prst="rect">
            <a:avLst/>
          </a:prstGeom>
          <a:solidFill>
            <a:srgbClr val="cc66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362320"/>
            <a:ext cx="6172200" cy="838080"/>
          </a:xfrm>
          <a:prstGeom prst="rect">
            <a:avLst/>
          </a:prstGeom>
          <a:solidFill>
            <a:srgbClr val="ff00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5257800"/>
            <a:ext cx="617220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676520"/>
            <a:ext cx="61722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019920"/>
            <a:ext cx="6172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631880"/>
            <a:ext cx="6172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Remembering: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Student can recall or remember information (define, duplicate, list, memorize, recall, repeat, reproduce, st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Understanding: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Student can explain ideas or concepts (classify, describe, discuss, explain, identify, locate, recognize, report, select, translate, paraphr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pply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use the information in a new way (choose, demonstrate, dramatize, employ, illustrate, interpret, operate, schedule, sketch, solve, use, 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nalyz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distinguish between the different parts (appraise, compare, contrast, criticize, differentiate, discriminate, distinguish, examine, experiment, question,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valuat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justify a stand or decision (appraise, argue, defend, judge, select, support, value, evalu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reat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create new product or point of view (assemble, construct, create, design, develop, formulate, wri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477120" y="2743200"/>
            <a:ext cx="2514600" cy="2209680"/>
            <a:chOff x="6477120" y="2743200"/>
            <a:chExt cx="2514600" cy="220968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477120" y="2743200"/>
              <a:ext cx="2514600" cy="22096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6477120" y="27432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oom’s Taxonomy – An Exercise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How Would You Classify These According To Bloom’s Taxono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mpare and contrast the prevailing theories of the origin of bi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ere would the organism in Fig. 3 fit in a phylogenetic t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fine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plesiomorph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sign an experimental procedure to enable classification of newly identified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dentify the database that would be most appropriate for the assigned analysis, and justify your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w a cladogram which accurately depicts the lineage of the taxa we discussed in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743200" cy="2219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Styles – Man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2706480" cy="2747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2120" y="4343400"/>
            <a:ext cx="2857320" cy="2162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952880" y="1752480"/>
            <a:ext cx="3591000" cy="2352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181480" y="3733920"/>
            <a:ext cx="2143080" cy="2800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2360" y="1828800"/>
            <a:ext cx="7093440" cy="4575240"/>
            <a:chOff x="612360" y="1828800"/>
            <a:chExt cx="7093440" cy="45752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866600" y="1828800"/>
              <a:ext cx="4506840" cy="45752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105" name=""/>
            <p:cNvSpPr/>
            <p:nvPr/>
          </p:nvSpPr>
          <p:spPr>
            <a:xfrm>
              <a:off x="6485760" y="198144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nov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8880" y="5486400"/>
              <a:ext cx="1105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2360" y="198144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yna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17800" y="563904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lyt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Greg Gibson</cp:lastModifiedBy>
  <dcterms:modified xsi:type="dcterms:W3CDTF">2006-03-09T04:24:36Z</dcterms:modified>
  <cp:revision>18</cp:revision>
  <dc:subject/>
  <dc:title>Slide 1</dc:title>
</cp:coreProperties>
</file>