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wmf" ContentType="image/x-wmf"/>
  <Override PartName="/ppt/media/image4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5A3F-3FB9-4B66-A204-8F0B9A4CE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8ED3-98A3-42A7-9A5E-4089B1208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7222-42BF-43F3-B94E-CBBD5E2D6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66BC-FA96-4E08-AD87-2C823212E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473E-ECE4-422F-8F64-3852D075E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55B1-50A9-4985-BB7A-6A2724D2F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F597-9461-41DE-B321-24E5820D2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A3F6-1F40-43A6-8B4C-00D425A6B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3E94-AE92-471E-A785-2BC875BBD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61AD-DA2D-4AE8-9036-062FCFAAE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C145-6EC8-47AD-BF13-7D1AD13E8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B69A-3C77-4BDB-8C80-9A9C65139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5E2CD-62A6-4AB3-A1D8-2509A7F6F5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engr.ncsu.edu/learningstyles/ilsweb.html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NESCent Postdoc Professional Development Series on Effective Teaching and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Session 1 – Learning Theories, Learning Sty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971800" y="2819520"/>
            <a:ext cx="3048120" cy="284796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44" name=""/>
          <p:cNvSpPr/>
          <p:nvPr/>
        </p:nvSpPr>
        <p:spPr>
          <a:xfrm>
            <a:off x="723960" y="1600200"/>
            <a:ext cx="7696080" cy="0"/>
          </a:xfrm>
          <a:prstGeom prst="line">
            <a:avLst/>
          </a:prstGeom>
          <a:ln w="38160">
            <a:solidFill>
              <a:srgbClr val="333399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994040" y="5943600"/>
            <a:ext cx="515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February 24</a:t>
            </a:r>
            <a:r>
              <a:rPr b="0" lang="en-US" sz="1800" spc="-1" strike="noStrike" baseline="30000">
                <a:solidFill>
                  <a:srgbClr val="333399"/>
                </a:solidFill>
                <a:latin typeface="Tahoma"/>
              </a:rPr>
              <a:t>th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,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NESCent - Durham, N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hould You Teach To Learning Styl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8156520" y="5935680"/>
            <a:ext cx="987480" cy="922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0" y="1523880"/>
            <a:ext cx="769608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90560" y="1601640"/>
            <a:ext cx="6600960" cy="51055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ching To Learning Sty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8156520" y="5935680"/>
            <a:ext cx="987480" cy="9223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0" y="1523880"/>
            <a:ext cx="769608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39760" y="1905120"/>
            <a:ext cx="8090280" cy="581400"/>
            <a:chOff x="239760" y="1905120"/>
            <a:chExt cx="8090280" cy="581400"/>
          </a:xfrm>
        </p:grpSpPr>
        <p:sp>
          <p:nvSpPr>
            <p:cNvPr id="117" name=""/>
            <p:cNvSpPr/>
            <p:nvPr/>
          </p:nvSpPr>
          <p:spPr>
            <a:xfrm>
              <a:off x="3214440" y="2057400"/>
              <a:ext cx="2362320" cy="380520"/>
            </a:xfrm>
            <a:prstGeom prst="leftRightArrow">
              <a:avLst>
                <a:gd name="adj1" fmla="val 50000"/>
                <a:gd name="adj2" fmla="val 123588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39760" y="1905120"/>
              <a:ext cx="2879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Tahoma"/>
                </a:rPr>
                <a:t>ACTIVE LEARN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99"/>
                  </a:solidFill>
                  <a:latin typeface="Tahoma"/>
                </a:rPr>
                <a:t>Discussion, Debate, Group Wor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741280" y="1905120"/>
              <a:ext cx="2588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Tahoma"/>
                </a:rPr>
                <a:t>REFLECTIVE LEARN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99"/>
                  </a:solidFill>
                  <a:latin typeface="Tahoma"/>
                </a:rPr>
                <a:t>Journals, Time for Reflec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123120" y="3002040"/>
            <a:ext cx="8227800" cy="581400"/>
            <a:chOff x="123120" y="3002040"/>
            <a:chExt cx="8227800" cy="581400"/>
          </a:xfrm>
        </p:grpSpPr>
        <p:sp>
          <p:nvSpPr>
            <p:cNvPr id="121" name=""/>
            <p:cNvSpPr/>
            <p:nvPr/>
          </p:nvSpPr>
          <p:spPr>
            <a:xfrm>
              <a:off x="3214440" y="3124080"/>
              <a:ext cx="2362320" cy="381240"/>
            </a:xfrm>
            <a:prstGeom prst="leftRightArrow">
              <a:avLst>
                <a:gd name="adj1" fmla="val 50000"/>
                <a:gd name="adj2" fmla="val 123354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23120" y="3002040"/>
              <a:ext cx="3119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Tahoma"/>
                </a:rPr>
                <a:t>VISUAL LEARN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99"/>
                  </a:solidFill>
                  <a:latin typeface="Tahoma"/>
                </a:rPr>
                <a:t>Diagrams, Movies, Demonstratio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690520" y="3002040"/>
              <a:ext cx="2660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Tahoma"/>
                </a:rPr>
                <a:t>VERBAL LEARN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99"/>
                  </a:solidFill>
                  <a:latin typeface="Tahoma"/>
                </a:rPr>
                <a:t>Writing Projects, Oral Repor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160920" y="3992400"/>
            <a:ext cx="8128080" cy="581400"/>
            <a:chOff x="160920" y="3992400"/>
            <a:chExt cx="8128080" cy="581400"/>
          </a:xfrm>
        </p:grpSpPr>
        <p:sp>
          <p:nvSpPr>
            <p:cNvPr id="125" name=""/>
            <p:cNvSpPr/>
            <p:nvPr/>
          </p:nvSpPr>
          <p:spPr>
            <a:xfrm>
              <a:off x="3138480" y="4114800"/>
              <a:ext cx="2361960" cy="380880"/>
            </a:xfrm>
            <a:prstGeom prst="leftRightArrow">
              <a:avLst>
                <a:gd name="adj1" fmla="val 50000"/>
                <a:gd name="adj2" fmla="val 123452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60920" y="3992400"/>
              <a:ext cx="3050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Tahoma"/>
                </a:rPr>
                <a:t>SENSING LEARN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99"/>
                  </a:solidFill>
                  <a:latin typeface="Tahoma"/>
                </a:rPr>
                <a:t>Real-world Applications, Hands-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82680" y="3992400"/>
              <a:ext cx="2506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Tahoma"/>
                </a:rPr>
                <a:t>INTUITIVE LEARN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99"/>
                  </a:solidFill>
                  <a:latin typeface="Tahoma"/>
                </a:rPr>
                <a:t>Concept Maps, Connectio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323640" y="5105520"/>
            <a:ext cx="8094240" cy="794520"/>
            <a:chOff x="323640" y="5105520"/>
            <a:chExt cx="8094240" cy="794520"/>
          </a:xfrm>
        </p:grpSpPr>
        <p:sp>
          <p:nvSpPr>
            <p:cNvPr id="129" name=""/>
            <p:cNvSpPr/>
            <p:nvPr/>
          </p:nvSpPr>
          <p:spPr>
            <a:xfrm>
              <a:off x="3214440" y="5181480"/>
              <a:ext cx="2362320" cy="381240"/>
            </a:xfrm>
            <a:prstGeom prst="leftRightArrow">
              <a:avLst>
                <a:gd name="adj1" fmla="val 50000"/>
                <a:gd name="adj2" fmla="val 123354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23640" y="5105520"/>
              <a:ext cx="2710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Tahoma"/>
                </a:rPr>
                <a:t>SEQUENTIAL LEARN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99"/>
                  </a:solidFill>
                  <a:latin typeface="Tahoma"/>
                </a:rPr>
                <a:t>Outlines, Flow Char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888520" y="5105520"/>
              <a:ext cx="2529360" cy="79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Tahoma"/>
                </a:rPr>
                <a:t>GLOBAL LEARN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99"/>
                  </a:solidFill>
                  <a:latin typeface="Tahoma"/>
                </a:rPr>
                <a:t>Overviews, Connections to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99"/>
                  </a:solidFill>
                  <a:latin typeface="Tahoma"/>
                </a:rPr>
                <a:t>Other Material, “Big Picture”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dissolve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ow Students Learn, How Teachers Teach, and What Goes Wrong with the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Fact of Life #1: What students learn &lt; what we tea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Fact of Life #2: How much they learn is determined b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Innate 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Backgr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Match between their learning style and our teaching sty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Fact of Life #3: We can’t do much about their ability, background or learning sty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Conclusion: To maximize student learning, all we have to work with is our teaching sty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8156520" y="5935680"/>
            <a:ext cx="987480" cy="9223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0" y="1523880"/>
            <a:ext cx="769608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486400" y="6643800"/>
            <a:ext cx="184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26440" y="6553080"/>
            <a:ext cx="3105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99"/>
                </a:solidFill>
                <a:latin typeface="Tahoma"/>
              </a:rPr>
              <a:t>RM Felder and R Brent, Effective Teaching, NCSU, 200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ome Good Resourc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McKeachie - </a:t>
            </a:r>
            <a:r>
              <a:rPr b="0" i="1" lang="en-US" sz="3200" spc="-1" strike="noStrike">
                <a:solidFill>
                  <a:srgbClr val="333399"/>
                </a:solidFill>
                <a:latin typeface="Tahoma"/>
              </a:rPr>
              <a:t>Teaching Tips: Strategies, Research and Theory for College and University Teac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Davis - </a:t>
            </a:r>
            <a:r>
              <a:rPr b="0" i="1" lang="en-US" sz="3200" spc="-1" strike="noStrike">
                <a:solidFill>
                  <a:srgbClr val="333399"/>
                </a:solidFill>
                <a:latin typeface="Tahoma"/>
              </a:rPr>
              <a:t>Tools for Teac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Given – </a:t>
            </a:r>
            <a:r>
              <a:rPr b="0" i="1" lang="en-US" sz="3200" spc="-1" strike="noStrike">
                <a:solidFill>
                  <a:srgbClr val="333399"/>
                </a:solidFill>
                <a:latin typeface="Tahoma"/>
              </a:rPr>
              <a:t>Learning Sty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1"/>
              </a:rPr>
              <a:t>http://www.engr.ncsu.edu/learningstyles/ilsweb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http://www.humanmetrics.com/cgi-win/jungtype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8156520" y="5935680"/>
            <a:ext cx="987480" cy="9223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0" y="1523880"/>
            <a:ext cx="769608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Makes A Good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8156520" y="5935680"/>
            <a:ext cx="987480" cy="9223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1523880"/>
            <a:ext cx="769608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1219320" y="2209680"/>
            <a:ext cx="2286000" cy="3581640"/>
            <a:chOff x="1219320" y="2209680"/>
            <a:chExt cx="2286000" cy="3581640"/>
          </a:xfrm>
        </p:grpSpPr>
        <p:sp>
          <p:nvSpPr>
            <p:cNvPr id="50" name=""/>
            <p:cNvSpPr txBox="1"/>
            <p:nvPr/>
          </p:nvSpPr>
          <p:spPr>
            <a:xfrm>
              <a:off x="1219320" y="2209680"/>
              <a:ext cx="2286000" cy="914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ahoma"/>
                </a:rPr>
                <a:t>Teacher?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ahoma"/>
                <a:ea typeface="Tahoma"/>
              </a:endParaRPr>
            </a:p>
          </p:txBody>
        </p:sp>
        <p:pic>
          <p:nvPicPr>
            <p:cNvPr id="51" name="" descr=""/>
            <p:cNvPicPr/>
            <p:nvPr/>
          </p:nvPicPr>
          <p:blipFill>
            <a:blip r:embed="rId2"/>
            <a:stretch/>
          </p:blipFill>
          <p:spPr>
            <a:xfrm>
              <a:off x="1441440" y="3505320"/>
              <a:ext cx="1911240" cy="2286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2" name=""/>
          <p:cNvGrpSpPr/>
          <p:nvPr/>
        </p:nvGrpSpPr>
        <p:grpSpPr>
          <a:xfrm>
            <a:off x="5334120" y="2362320"/>
            <a:ext cx="2286000" cy="3504960"/>
            <a:chOff x="5334120" y="2362320"/>
            <a:chExt cx="2286000" cy="3504960"/>
          </a:xfrm>
        </p:grpSpPr>
        <p:sp>
          <p:nvSpPr>
            <p:cNvPr id="53" name=""/>
            <p:cNvSpPr txBox="1"/>
            <p:nvPr/>
          </p:nvSpPr>
          <p:spPr>
            <a:xfrm>
              <a:off x="5334120" y="4952880"/>
              <a:ext cx="2286000" cy="914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ahoma"/>
                </a:rPr>
                <a:t>Scientist?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ahoma"/>
                <a:ea typeface="Tahoma"/>
              </a:endParaRPr>
            </a:p>
          </p:txBody>
        </p:sp>
        <p:pic>
          <p:nvPicPr>
            <p:cNvPr id="54" name="" descr=""/>
            <p:cNvPicPr/>
            <p:nvPr/>
          </p:nvPicPr>
          <p:blipFill>
            <a:blip r:embed="rId3"/>
            <a:stretch/>
          </p:blipFill>
          <p:spPr>
            <a:xfrm>
              <a:off x="5562720" y="2362320"/>
              <a:ext cx="1809720" cy="22874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Lesson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8156520" y="5935680"/>
            <a:ext cx="987480" cy="9223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0" y="1523880"/>
            <a:ext cx="769608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28880" y="2057400"/>
            <a:ext cx="71244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he traits that make someone a good scientist are not necessarily the same traits that make them a good teacher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23960" y="4038480"/>
            <a:ext cx="76960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…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but they’re not mutually exclusive, eithe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Learning Theories – Many Mode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8156520" y="5935680"/>
            <a:ext cx="987480" cy="922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523880"/>
            <a:ext cx="769608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371600" y="1752480"/>
            <a:ext cx="6400800" cy="48006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Bloom’s Taxonomy</a:t>
            </a:r>
            <a:br>
              <a:rPr sz="4000"/>
            </a:b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A classification of levels of intellectual behavior important in learn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8156520" y="5935680"/>
            <a:ext cx="987480" cy="9223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0" y="1523880"/>
            <a:ext cx="769608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44960" y="2286000"/>
            <a:ext cx="3822120" cy="3429000"/>
            <a:chOff x="444960" y="2286000"/>
            <a:chExt cx="3822120" cy="3429000"/>
          </a:xfrm>
        </p:grpSpPr>
        <p:grpSp>
          <p:nvGrpSpPr>
            <p:cNvPr id="68" name=""/>
            <p:cNvGrpSpPr/>
            <p:nvPr/>
          </p:nvGrpSpPr>
          <p:grpSpPr>
            <a:xfrm>
              <a:off x="457200" y="2286000"/>
              <a:ext cx="3809880" cy="3429000"/>
              <a:chOff x="457200" y="2286000"/>
              <a:chExt cx="3809880" cy="3429000"/>
            </a:xfrm>
          </p:grpSpPr>
          <p:sp>
            <p:nvSpPr>
              <p:cNvPr id="69" name=""/>
              <p:cNvSpPr/>
              <p:nvPr/>
            </p:nvSpPr>
            <p:spPr>
              <a:xfrm>
                <a:off x="457200" y="2286000"/>
                <a:ext cx="380988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0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33520" y="2286000"/>
                <a:ext cx="3733560" cy="3402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1" name=""/>
            <p:cNvSpPr/>
            <p:nvPr/>
          </p:nvSpPr>
          <p:spPr>
            <a:xfrm>
              <a:off x="444960" y="2286000"/>
              <a:ext cx="87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Tahoma"/>
                </a:rPr>
                <a:t>195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4859640" y="2286000"/>
            <a:ext cx="3870000" cy="3414600"/>
            <a:chOff x="4859640" y="2286000"/>
            <a:chExt cx="3870000" cy="3414600"/>
          </a:xfrm>
        </p:grpSpPr>
        <p:pic>
          <p:nvPicPr>
            <p:cNvPr id="73" name="" descr=""/>
            <p:cNvPicPr/>
            <p:nvPr/>
          </p:nvPicPr>
          <p:blipFill>
            <a:blip r:embed="rId3"/>
            <a:stretch/>
          </p:blipFill>
          <p:spPr>
            <a:xfrm>
              <a:off x="4876920" y="2286000"/>
              <a:ext cx="3852720" cy="3414600"/>
            </a:xfrm>
            <a:prstGeom prst="rect">
              <a:avLst/>
            </a:prstGeom>
            <a:ln w="9360">
              <a:solidFill>
                <a:srgbClr val="333399"/>
              </a:solidFill>
              <a:miter/>
            </a:ln>
          </p:spPr>
        </p:pic>
        <p:sp>
          <p:nvSpPr>
            <p:cNvPr id="74" name=""/>
            <p:cNvSpPr/>
            <p:nvPr/>
          </p:nvSpPr>
          <p:spPr>
            <a:xfrm>
              <a:off x="4859640" y="2286000"/>
              <a:ext cx="1022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Tahoma"/>
                </a:rPr>
                <a:t>1990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52280" y="4343400"/>
            <a:ext cx="6172200" cy="762120"/>
          </a:xfrm>
          <a:prstGeom prst="rect">
            <a:avLst/>
          </a:prstGeom>
          <a:solidFill>
            <a:srgbClr val="33cc33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52280" y="3352680"/>
            <a:ext cx="6172200" cy="838440"/>
          </a:xfrm>
          <a:prstGeom prst="rect">
            <a:avLst/>
          </a:prstGeom>
          <a:solidFill>
            <a:srgbClr val="cc66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52280" y="2362320"/>
            <a:ext cx="6172200" cy="838080"/>
          </a:xfrm>
          <a:prstGeom prst="rect">
            <a:avLst/>
          </a:prstGeom>
          <a:solidFill>
            <a:srgbClr val="ff0066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52280" y="5257800"/>
            <a:ext cx="6172200" cy="609480"/>
          </a:xfrm>
          <a:prstGeom prst="rect">
            <a:avLst/>
          </a:prstGeom>
          <a:solidFill>
            <a:srgbClr val="0099cc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52280" y="1676520"/>
            <a:ext cx="6172200" cy="609480"/>
          </a:xfrm>
          <a:prstGeom prst="rect">
            <a:avLst/>
          </a:prstGeom>
          <a:solidFill>
            <a:srgbClr val="ff99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52280" y="6019920"/>
            <a:ext cx="617220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loom’s Taxonom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8156520" y="5935680"/>
            <a:ext cx="987480" cy="9223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0" y="1523880"/>
            <a:ext cx="769608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52280" y="1631880"/>
            <a:ext cx="61722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ahoma"/>
              </a:rPr>
              <a:t>Remembering: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 Student can recall or remember information (define, duplicate, list, memorize, recall, repeat, reproduce, sta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ahoma"/>
              </a:rPr>
              <a:t>Understanding: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 Student can explain ideas or concepts (classify, describe, discuss, explain, identify, locate, recognize, report, select, translate, paraphras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ahoma"/>
              </a:rPr>
              <a:t>Applying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: Student can use the information in a new way (choose, demonstrate, dramatize, employ, illustrate, interpret, operate, schedule, sketch, solve, use, wri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ahoma"/>
              </a:rPr>
              <a:t>Analyzing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: Student can distinguish between the different parts (appraise, compare, contrast, criticize, differentiate, discriminate, distinguish, examine, experiment, question, te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ahoma"/>
              </a:rPr>
              <a:t>Evaluating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: Student can justify a stand or decision (appraise, argue, defend, judge, select, support, value, evalua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ahoma"/>
              </a:rPr>
              <a:t>Creating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: Student can create new product or point of view (assemble, construct, create, design, develop, formulate, write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6477120" y="2743200"/>
            <a:ext cx="2514600" cy="2209680"/>
            <a:chOff x="6477120" y="2743200"/>
            <a:chExt cx="2514600" cy="2209680"/>
          </a:xfrm>
        </p:grpSpPr>
        <p:pic>
          <p:nvPicPr>
            <p:cNvPr id="86" name="" descr=""/>
            <p:cNvPicPr/>
            <p:nvPr/>
          </p:nvPicPr>
          <p:blipFill>
            <a:blip r:embed="rId2"/>
            <a:stretch/>
          </p:blipFill>
          <p:spPr>
            <a:xfrm>
              <a:off x="6477120" y="2743200"/>
              <a:ext cx="2514600" cy="2209680"/>
            </a:xfrm>
            <a:prstGeom prst="rect">
              <a:avLst/>
            </a:prstGeom>
            <a:ln w="9360">
              <a:solidFill>
                <a:srgbClr val="333399"/>
              </a:solidFill>
              <a:miter/>
            </a:ln>
          </p:spPr>
        </p:pic>
        <p:sp>
          <p:nvSpPr>
            <p:cNvPr id="87" name=""/>
            <p:cNvSpPr/>
            <p:nvPr/>
          </p:nvSpPr>
          <p:spPr>
            <a:xfrm>
              <a:off x="6477120" y="2743200"/>
              <a:ext cx="18432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Bloom’s Taxonomy – An Exercise</a:t>
            </a:r>
            <a:br>
              <a:rPr sz="4000"/>
            </a:b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How Would You Classify These According To Bloom’s Taxonom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Compare and contrast the prevailing theories of the origin of bir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Where would the organism in Fig. 3 fit in a phylogenetic tre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Define </a:t>
            </a:r>
            <a:r>
              <a:rPr b="0" i="1" lang="en-US" sz="2400" spc="-1" strike="noStrike">
                <a:solidFill>
                  <a:srgbClr val="333399"/>
                </a:solidFill>
                <a:latin typeface="Tahoma"/>
              </a:rPr>
              <a:t>plesiomorphy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Design an experimental procedure to enable classification of newly identified organis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Identify the database that would be most appropriate for the assigned analysis, and justify your sel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Draw a cladogram which accurately depicts the lineage of the taxa we discussed in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8156520" y="5935680"/>
            <a:ext cx="987480" cy="9223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0" y="1523880"/>
            <a:ext cx="769608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2743200" cy="22194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earning Styles – Many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8156520" y="5935680"/>
            <a:ext cx="987480" cy="9223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0" y="1523880"/>
            <a:ext cx="769608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2819520" y="2819520"/>
            <a:ext cx="2706480" cy="27478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762120" y="4343400"/>
            <a:ext cx="2857320" cy="216216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>
            <a:off x="4952880" y="1752480"/>
            <a:ext cx="3591000" cy="235296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5181480" y="3733920"/>
            <a:ext cx="2143080" cy="28000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p:transition>
    <p:dissolv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earning Sty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8156520" y="5935680"/>
            <a:ext cx="987480" cy="9223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0" y="1523880"/>
            <a:ext cx="769608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612360" y="1828800"/>
            <a:ext cx="7093440" cy="4575240"/>
            <a:chOff x="612360" y="1828800"/>
            <a:chExt cx="7093440" cy="4575240"/>
          </a:xfrm>
        </p:grpSpPr>
        <p:pic>
          <p:nvPicPr>
            <p:cNvPr id="104" name="" descr=""/>
            <p:cNvPicPr/>
            <p:nvPr/>
          </p:nvPicPr>
          <p:blipFill>
            <a:blip r:embed="rId2"/>
            <a:stretch/>
          </p:blipFill>
          <p:spPr>
            <a:xfrm>
              <a:off x="1866600" y="1828800"/>
              <a:ext cx="4506840" cy="4575240"/>
            </a:xfrm>
            <a:prstGeom prst="rect">
              <a:avLst/>
            </a:prstGeom>
            <a:ln w="9360">
              <a:solidFill>
                <a:srgbClr val="333399"/>
              </a:solidFill>
              <a:miter/>
            </a:ln>
          </p:spPr>
        </p:pic>
        <p:sp>
          <p:nvSpPr>
            <p:cNvPr id="105" name=""/>
            <p:cNvSpPr/>
            <p:nvPr/>
          </p:nvSpPr>
          <p:spPr>
            <a:xfrm>
              <a:off x="6485760" y="1981440"/>
              <a:ext cx="1220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novati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arn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68880" y="5486400"/>
              <a:ext cx="1105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mm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n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arn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12360" y="1981440"/>
              <a:ext cx="1080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ynam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arn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517800" y="5639040"/>
              <a:ext cx="1155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nalytic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arn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3T17:24:31Z</dcterms:created>
  <dc:creator>Jory P. Weintraub, Ph.D.</dc:creator>
  <dc:description/>
  <dc:language>en-US</dc:language>
  <cp:lastModifiedBy>Greg Gibson</cp:lastModifiedBy>
  <dcterms:modified xsi:type="dcterms:W3CDTF">2006-03-09T04:24:36Z</dcterms:modified>
  <cp:revision>18</cp:revision>
  <dc:subject/>
  <dc:title>Slide 1</dc:title>
</cp:coreProperties>
</file>